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.gif" ContentType="image/gif"/>
  <Override PartName="/ppt/media/image11.jpeg" ContentType="image/jpeg"/>
  <Override PartName="/ppt/media/image6.jpeg" ContentType="image/jpeg"/>
  <Override PartName="/ppt/media/image22.wmf" ContentType="image/x-wmf"/>
  <Override PartName="/ppt/media/image7.jpeg" ContentType="image/jpeg"/>
  <Override PartName="/ppt/media/image12.jpeg" ContentType="image/jpeg"/>
  <Override PartName="/ppt/media/image21.wmf" ContentType="image/x-wmf"/>
  <Override PartName="/ppt/media/image19.wmf" ContentType="image/x-wmf"/>
  <Override PartName="/ppt/media/image16.wmf" ContentType="image/x-wmf"/>
  <Override PartName="/ppt/media/image4.jpeg" ContentType="image/jpeg"/>
  <Override PartName="/ppt/media/image15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4193-008E-4510-BBD9-28D4C430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F10E-F30B-4B61-BBE5-4161BBB5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2344-ACA6-4CC9-A5D1-7E6A4A35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C99B-66D4-4FBF-A8D4-017ED350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4C84-6F70-49CD-B607-148F73DD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3B2D-EDDE-437B-AF79-57DB9C93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A873-CD1A-441C-A219-2F410F1B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E427-76B8-4870-9572-CA5ABFB5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8023-66F2-44FD-A23B-5E7E4A8B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3BDF-2768-4E82-80B9-623B7602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41D9-E964-4E1C-B547-B5F73ADA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02B2-CFE8-494A-91CF-5F0FA8F4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C45C-2A60-49D0-93ED-8027DBF3D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14.wmf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0.xm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6.xm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ru.wikipedia.org/wiki/&#1040;&#1074;&#1072;&#1085;&#1075;&#1072;&#1088;&#1076;&#1080;&#1079;&#1084;" TargetMode="External"/><Relationship Id="rId3" Type="http://schemas.openxmlformats.org/officeDocument/2006/relationships/hyperlink" Target="http://ru.wikipedia.org/wiki/&#1046;&#1080;&#1074;&#1086;&#1087;&#1080;&#1089;&#1100;" TargetMode="External"/><Relationship Id="rId4" Type="http://schemas.openxmlformats.org/officeDocument/2006/relationships/hyperlink" Target="http://ru.wikipedia.org/wiki/&#1060;&#1072;&#1081;&#1083;:Gris2.jp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713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ff0000"/>
                </a:solidFill>
                <a:uFillTx/>
                <a:latin typeface="Calibri"/>
              </a:rPr>
              <a:t>Свойство углов,</a:t>
            </a:r>
            <a:br>
              <a:rPr sz="4500"/>
            </a:br>
            <a:r>
              <a:rPr b="1" lang="en-US" sz="4500" spc="-1" strike="noStrike" u="sng">
                <a:solidFill>
                  <a:srgbClr val="ff0000"/>
                </a:solidFill>
                <a:uFillTx/>
                <a:latin typeface="Calibri"/>
              </a:rPr>
              <a:t>образованных при пересечении</a:t>
            </a:r>
            <a:br>
              <a:rPr sz="4500"/>
            </a:br>
            <a:r>
              <a:rPr b="1" lang="en-US" sz="4500" spc="-1" strike="noStrike" u="sng">
                <a:solidFill>
                  <a:srgbClr val="ff0000"/>
                </a:solidFill>
                <a:uFillTx/>
                <a:latin typeface="Calibri"/>
              </a:rPr>
              <a:t>параллельных прямых секущей.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3715920"/>
            <a:ext cx="74170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entury"/>
              </a:rPr>
              <a:t>Материал к уроку геомет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entury"/>
              </a:rPr>
              <a:t>7 клас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entury"/>
              </a:rPr>
              <a:t>Учитель И. В. Огрыз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"/>
              </a:rPr>
              <a:t>ст. Бриньковск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"/>
              </a:rPr>
              <a:t>2014-2015 учебный г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Параллельность прямы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Calibri"/>
              </a:rPr>
              <a:t>Ответьте на 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ие прямые, отрезки и лучи называются параллельны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формулируйте основное свойство параллельных прям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формулируйте теорему о параллельных прям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8352000" y="628164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0920" y="189000"/>
            <a:ext cx="87138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Углы, образованные при пересечении двух прямых и секущ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050920" y="1700280"/>
            <a:ext cx="4707000" cy="2419560"/>
            <a:chOff x="2050920" y="1700280"/>
            <a:chExt cx="4707000" cy="2419560"/>
          </a:xfrm>
        </p:grpSpPr>
        <p:grpSp>
          <p:nvGrpSpPr>
            <p:cNvPr id="140" name=""/>
            <p:cNvGrpSpPr/>
            <p:nvPr/>
          </p:nvGrpSpPr>
          <p:grpSpPr>
            <a:xfrm>
              <a:off x="2050920" y="1700280"/>
              <a:ext cx="4647960" cy="2209680"/>
              <a:chOff x="2050920" y="1700280"/>
              <a:chExt cx="4647960" cy="2209680"/>
            </a:xfrm>
          </p:grpSpPr>
          <p:sp>
            <p:nvSpPr>
              <p:cNvPr id="141" name=""/>
              <p:cNvSpPr/>
              <p:nvPr/>
            </p:nvSpPr>
            <p:spPr>
              <a:xfrm flipV="1">
                <a:off x="2050920" y="1928880"/>
                <a:ext cx="449568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126880" y="3148200"/>
                <a:ext cx="457200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3345840" y="1700280"/>
                <a:ext cx="1143000" cy="22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3956040" y="17766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13240" y="17766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60960" y="21574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3760" y="21574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22520" y="29959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03760" y="29959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75160" y="33004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70240" y="33004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19640" y="3645000"/>
              <a:ext cx="457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00720" y="3571920"/>
              <a:ext cx="457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84720" y="1845000"/>
              <a:ext cx="457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а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46200" y="4149720"/>
            <a:ext cx="824688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ямая </a:t>
            </a:r>
            <a:r>
              <a:rPr b="1" i="1" lang="en-US" sz="2800" spc="-1" strike="noStrike">
                <a:solidFill>
                  <a:srgbClr val="0000cc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секуща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 отношению к прямым </a:t>
            </a: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en-US" sz="2800" spc="-1" strike="noStrike">
                <a:solidFill>
                  <a:srgbClr val="0000cc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Внутренние накрест лежащие углы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3 и 5, 4 и 6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Внутренние односторонние углы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4 и 5, 3 и 6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Соответственные углы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1 и 5, 2 и 6, 4 и 8, 3 и 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8352000" y="628164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6227640" y="4797360"/>
            <a:ext cx="1944720" cy="43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5950080"/>
            <a:ext cx="352764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5940360" y="5373720"/>
            <a:ext cx="194472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1979640" y="4221000"/>
            <a:ext cx="1800360" cy="43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470160" y="1341360"/>
            <a:ext cx="3957480" cy="3816000"/>
            <a:chOff x="470160" y="1341360"/>
            <a:chExt cx="3957480" cy="3816000"/>
          </a:xfrm>
        </p:grpSpPr>
        <p:sp>
          <p:nvSpPr>
            <p:cNvPr id="162" name="Прямая соединительная линия 4"/>
            <p:cNvSpPr/>
            <p:nvPr/>
          </p:nvSpPr>
          <p:spPr>
            <a:xfrm flipV="1">
              <a:off x="511200" y="2364840"/>
              <a:ext cx="3916440" cy="9320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Прямая соединительная линия 5"/>
            <p:cNvSpPr/>
            <p:nvPr/>
          </p:nvSpPr>
          <p:spPr>
            <a:xfrm>
              <a:off x="608040" y="3994200"/>
              <a:ext cx="3770280" cy="766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Прямая соединительная линия 8"/>
            <p:cNvSpPr/>
            <p:nvPr/>
          </p:nvSpPr>
          <p:spPr>
            <a:xfrm flipV="1">
              <a:off x="1343160" y="1588680"/>
              <a:ext cx="1712880" cy="3568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TextBox 14"/>
            <p:cNvSpPr/>
            <p:nvPr/>
          </p:nvSpPr>
          <p:spPr>
            <a:xfrm>
              <a:off x="579600" y="4206960"/>
              <a:ext cx="339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Box 15"/>
            <p:cNvSpPr/>
            <p:nvPr/>
          </p:nvSpPr>
          <p:spPr>
            <a:xfrm>
              <a:off x="470160" y="2610000"/>
              <a:ext cx="339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TextBox 19"/>
            <p:cNvSpPr/>
            <p:nvPr/>
          </p:nvSpPr>
          <p:spPr>
            <a:xfrm>
              <a:off x="3112200" y="1341360"/>
              <a:ext cx="3207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Box 13"/>
            <p:cNvSpPr/>
            <p:nvPr/>
          </p:nvSpPr>
          <p:spPr>
            <a:xfrm>
              <a:off x="198144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TextBox 16"/>
            <p:cNvSpPr/>
            <p:nvPr/>
          </p:nvSpPr>
          <p:spPr>
            <a:xfrm>
              <a:off x="2411280" y="27813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TextBox 17"/>
            <p:cNvSpPr/>
            <p:nvPr/>
          </p:nvSpPr>
          <p:spPr>
            <a:xfrm>
              <a:off x="1909800" y="386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TextBox 18"/>
            <p:cNvSpPr/>
            <p:nvPr/>
          </p:nvSpPr>
          <p:spPr>
            <a:xfrm>
              <a:off x="1478160" y="378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Стрелка вправо 10"/>
          <p:cNvSpPr/>
          <p:nvPr/>
        </p:nvSpPr>
        <p:spPr>
          <a:xfrm rot="5400000">
            <a:off x="6926760" y="2945520"/>
            <a:ext cx="690840" cy="504720"/>
          </a:xfrm>
          <a:prstGeom prst="rightArrow">
            <a:avLst>
              <a:gd name="adj1" fmla="val 50000"/>
              <a:gd name="adj2" fmla="val 20512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759040" cy="588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740560" y="4259160"/>
            <a:ext cx="2868480" cy="588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276720" y="5950080"/>
            <a:ext cx="5689440" cy="658800"/>
          </a:xfrm>
          <a:prstGeom prst="rect">
            <a:avLst/>
          </a:prstGeom>
          <a:ln w="0">
            <a:noFill/>
          </a:ln>
        </p:spPr>
      </p:pic>
      <p:sp>
        <p:nvSpPr>
          <p:cNvPr id="176" name="Стрелка вправо 10"/>
          <p:cNvSpPr/>
          <p:nvPr/>
        </p:nvSpPr>
        <p:spPr>
          <a:xfrm rot="5400000">
            <a:off x="6891480" y="4997520"/>
            <a:ext cx="761760" cy="504720"/>
          </a:xfrm>
          <a:prstGeom prst="rightArrow">
            <a:avLst>
              <a:gd name="adj1" fmla="val 50000"/>
              <a:gd name="adj2" fmla="val 2261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0"/>
            <a:ext cx="8640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f0000"/>
                </a:solidFill>
                <a:uFillTx/>
                <a:latin typeface="Calibri"/>
              </a:rPr>
              <a:t>Свойства внутренних накрест лежащих и внутренних односторонних улов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108840" y="1562040"/>
            <a:ext cx="596880" cy="457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7574040" y="1562040"/>
            <a:ext cx="666720" cy="457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6056280" y="2306520"/>
            <a:ext cx="631800" cy="492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7572240" y="2306520"/>
            <a:ext cx="668520" cy="465120"/>
          </a:xfrm>
          <a:prstGeom prst="rect">
            <a:avLst/>
          </a:prstGeom>
          <a:ln w="0">
            <a:noFill/>
          </a:ln>
        </p:spPr>
      </p:pic>
      <p:sp>
        <p:nvSpPr>
          <p:cNvPr id="182" name="TextBox 9"/>
          <p:cNvSpPr/>
          <p:nvPr/>
        </p:nvSpPr>
        <p:spPr>
          <a:xfrm>
            <a:off x="6962760" y="155736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22"/>
          <p:cNvSpPr/>
          <p:nvPr/>
        </p:nvSpPr>
        <p:spPr>
          <a:xfrm>
            <a:off x="6962760" y="230652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5877000"/>
            <a:ext cx="5688000" cy="79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5580000" y="3645000"/>
            <a:ext cx="3313080" cy="1152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f0000"/>
                </a:solidFill>
                <a:uFillTx/>
                <a:latin typeface="Calibri"/>
              </a:rPr>
              <a:t>Свойства внутренних накрест лежащих и внутренних односторонних улов.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2346840" y="1341360"/>
            <a:ext cx="320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81080" y="1803240"/>
            <a:ext cx="3598920" cy="4507200"/>
            <a:chOff x="181080" y="1803240"/>
            <a:chExt cx="3598920" cy="4507200"/>
          </a:xfrm>
        </p:grpSpPr>
        <p:sp>
          <p:nvSpPr>
            <p:cNvPr id="189" name="Прямая соединительная линия 5"/>
            <p:cNvSpPr/>
            <p:nvPr/>
          </p:nvSpPr>
          <p:spPr>
            <a:xfrm>
              <a:off x="250920" y="4581360"/>
              <a:ext cx="3429000" cy="1106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Прямая соединительная линия 4"/>
            <p:cNvSpPr/>
            <p:nvPr/>
          </p:nvSpPr>
          <p:spPr>
            <a:xfrm flipV="1">
              <a:off x="217440" y="2255760"/>
              <a:ext cx="3562560" cy="1341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Прямая соединительная линия 8"/>
            <p:cNvSpPr/>
            <p:nvPr/>
          </p:nvSpPr>
          <p:spPr>
            <a:xfrm flipV="1">
              <a:off x="974880" y="1803240"/>
              <a:ext cx="1369800" cy="450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TextBox 14"/>
            <p:cNvSpPr/>
            <p:nvPr/>
          </p:nvSpPr>
          <p:spPr>
            <a:xfrm>
              <a:off x="281160" y="4941720"/>
              <a:ext cx="339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Box 15"/>
            <p:cNvSpPr/>
            <p:nvPr/>
          </p:nvSpPr>
          <p:spPr>
            <a:xfrm>
              <a:off x="181080" y="2633760"/>
              <a:ext cx="339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TextBox 13"/>
            <p:cNvSpPr/>
            <p:nvPr/>
          </p:nvSpPr>
          <p:spPr>
            <a:xfrm>
              <a:off x="1547640" y="2997360"/>
              <a:ext cx="27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6"/>
            <p:cNvSpPr/>
            <p:nvPr/>
          </p:nvSpPr>
          <p:spPr>
            <a:xfrm>
              <a:off x="198144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TextBox 17"/>
            <p:cNvSpPr/>
            <p:nvPr/>
          </p:nvSpPr>
          <p:spPr>
            <a:xfrm>
              <a:off x="1478160" y="450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TextBox 18"/>
            <p:cNvSpPr/>
            <p:nvPr/>
          </p:nvSpPr>
          <p:spPr>
            <a:xfrm>
              <a:off x="1044720" y="44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851280" y="2063880"/>
            <a:ext cx="598320" cy="45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164200" y="2049480"/>
                <a:ext cx="666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836880" y="2712960"/>
            <a:ext cx="666720" cy="4572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145120" y="2657520"/>
            <a:ext cx="633240" cy="501480"/>
          </a:xfrm>
          <a:prstGeom prst="rect">
            <a:avLst/>
          </a:prstGeom>
          <a:ln w="0">
            <a:noFill/>
          </a:ln>
        </p:spPr>
      </p:pic>
      <p:sp>
        <p:nvSpPr>
          <p:cNvPr id="202" name="TextBox 9"/>
          <p:cNvSpPr/>
          <p:nvPr/>
        </p:nvSpPr>
        <p:spPr>
          <a:xfrm>
            <a:off x="4604040" y="204480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2"/>
          <p:cNvSpPr/>
          <p:nvPr/>
        </p:nvSpPr>
        <p:spPr>
          <a:xfrm>
            <a:off x="4599000" y="270828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3780000" y="3357720"/>
            <a:ext cx="2759040" cy="5871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4427640" y="4941720"/>
            <a:ext cx="3276360" cy="7923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20"/>
          <p:cNvSpPr/>
          <p:nvPr/>
        </p:nvSpPr>
        <p:spPr>
          <a:xfrm>
            <a:off x="5942880" y="2060640"/>
            <a:ext cx="30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накрест лежащие угл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27"/>
          <p:cNvSpPr/>
          <p:nvPr/>
        </p:nvSpPr>
        <p:spPr>
          <a:xfrm>
            <a:off x="5989680" y="270828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односторонние угл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28"/>
          <p:cNvSpPr/>
          <p:nvPr/>
        </p:nvSpPr>
        <p:spPr>
          <a:xfrm>
            <a:off x="6594480" y="348444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смеж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Стрелка вправо 10"/>
          <p:cNvSpPr/>
          <p:nvPr/>
        </p:nvSpPr>
        <p:spPr>
          <a:xfrm rot="5400000">
            <a:off x="5630400" y="4314960"/>
            <a:ext cx="762120" cy="431640"/>
          </a:xfrm>
          <a:prstGeom prst="rightArrow">
            <a:avLst>
              <a:gd name="adj1" fmla="val 50000"/>
              <a:gd name="adj2" fmla="val 2646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Текст 2" descr=""/>
          <p:cNvPicPr/>
          <p:nvPr/>
        </p:nvPicPr>
        <p:blipFill>
          <a:blip r:embed="rId6"/>
          <a:stretch/>
        </p:blipFill>
        <p:spPr>
          <a:xfrm>
            <a:off x="3995640" y="5805360"/>
            <a:ext cx="4321440" cy="822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8352000" y="628164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3924360" y="5013360"/>
            <a:ext cx="4321080" cy="1584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Признак параллельности прямы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0" y="1267920"/>
            <a:ext cx="4572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Если внутренние накрест лежащие углы равны или сумма внутренних односторонних углов равна 18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то прямые параллельн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50920" y="1773360"/>
            <a:ext cx="4419360" cy="3613320"/>
            <a:chOff x="250920" y="1773360"/>
            <a:chExt cx="4419360" cy="3613320"/>
          </a:xfrm>
        </p:grpSpPr>
        <p:sp>
          <p:nvSpPr>
            <p:cNvPr id="216" name=""/>
            <p:cNvSpPr/>
            <p:nvPr/>
          </p:nvSpPr>
          <p:spPr>
            <a:xfrm flipV="1">
              <a:off x="250920" y="2625840"/>
              <a:ext cx="3733560" cy="36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26880" y="3743280"/>
              <a:ext cx="3733920" cy="31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1240920" y="1773360"/>
              <a:ext cx="1676520" cy="329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55680" y="2382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12880" y="2382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27080" y="27637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460600" y="27637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69880" y="35258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50920" y="3502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17600" y="39830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74800" y="39830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37120" y="2473560"/>
              <a:ext cx="457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а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37120" y="3692520"/>
              <a:ext cx="533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17600" y="4911840"/>
              <a:ext cx="457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0" name="Стрелка вправо 10"/>
          <p:cNvSpPr/>
          <p:nvPr/>
        </p:nvSpPr>
        <p:spPr>
          <a:xfrm rot="5400000">
            <a:off x="6552000" y="4185360"/>
            <a:ext cx="792000" cy="431640"/>
          </a:xfrm>
          <a:prstGeom prst="rightArrow">
            <a:avLst>
              <a:gd name="adj1" fmla="val 50000"/>
              <a:gd name="adj2" fmla="val 2749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4653000"/>
            <a:ext cx="5221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ве прямые, перпендикулярны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ретьей параллель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ямые параллельны, если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оответственные углы рав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/>
          <p:nvPr/>
        </p:nvSpPr>
        <p:spPr>
          <a:xfrm>
            <a:off x="8352000" y="628164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125360"/>
            <a:ext cx="4392720" cy="2951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/>
          <p:nvPr/>
        </p:nvSpPr>
        <p:spPr>
          <a:xfrm>
            <a:off x="3708360" y="4797360"/>
            <a:ext cx="525636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/>
          <p:nvPr/>
        </p:nvSpPr>
        <p:spPr>
          <a:xfrm>
            <a:off x="3708360" y="5877000"/>
            <a:ext cx="4608720" cy="79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СТОВЫЙ КОНТРОЛЬ ЗНАНИЙ</a:t>
            </a:r>
            <a:br>
              <a:rPr sz="4000"/>
            </a:b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1. Укажите неправильную концовку определе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2421000"/>
            <a:ext cx="799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Calibri"/>
              </a:rPr>
              <a:t>Две прямые на плоскости называются параллельными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если они находятся на постоянном расстоянии друг от друг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если они не пересекаются на плоск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если они обе перпендикулярны к третьей прямо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если они не пересекаются на чертеж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2. Выберите рисунки с пересекающимися прямым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762280" y="4440240"/>
            <a:ext cx="4267080" cy="1998720"/>
            <a:chOff x="2762280" y="4440240"/>
            <a:chExt cx="4267080" cy="1998720"/>
          </a:xfrm>
        </p:grpSpPr>
        <p:grpSp>
          <p:nvGrpSpPr>
            <p:cNvPr id="240" name=""/>
            <p:cNvGrpSpPr/>
            <p:nvPr/>
          </p:nvGrpSpPr>
          <p:grpSpPr>
            <a:xfrm>
              <a:off x="2762280" y="4440240"/>
              <a:ext cx="3657600" cy="1600200"/>
              <a:chOff x="2762280" y="4440240"/>
              <a:chExt cx="3657600" cy="1600200"/>
            </a:xfrm>
          </p:grpSpPr>
          <p:sp>
            <p:nvSpPr>
              <p:cNvPr id="241" name=""/>
              <p:cNvSpPr/>
              <p:nvPr/>
            </p:nvSpPr>
            <p:spPr>
              <a:xfrm>
                <a:off x="2762280" y="4440240"/>
                <a:ext cx="350532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914560" y="5126040"/>
                <a:ext cx="350532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6343560" y="51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96200" y="5964120"/>
              <a:ext cx="533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716360" y="1844280"/>
            <a:ext cx="3581640" cy="1923120"/>
            <a:chOff x="4716360" y="1844280"/>
            <a:chExt cx="3581640" cy="1923120"/>
          </a:xfrm>
        </p:grpSpPr>
        <p:grpSp>
          <p:nvGrpSpPr>
            <p:cNvPr id="246" name=""/>
            <p:cNvGrpSpPr/>
            <p:nvPr/>
          </p:nvGrpSpPr>
          <p:grpSpPr>
            <a:xfrm>
              <a:off x="5173560" y="1844280"/>
              <a:ext cx="3124440" cy="1447920"/>
              <a:chOff x="5173560" y="1844280"/>
              <a:chExt cx="3124440" cy="1447920"/>
            </a:xfrm>
          </p:grpSpPr>
          <p:sp>
            <p:nvSpPr>
              <p:cNvPr id="247" name=""/>
              <p:cNvSpPr/>
              <p:nvPr/>
            </p:nvSpPr>
            <p:spPr>
              <a:xfrm flipV="1">
                <a:off x="5173560" y="1844280"/>
                <a:ext cx="2819520" cy="1219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5478480" y="3063600"/>
                <a:ext cx="2819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4716360" y="2911320"/>
              <a:ext cx="381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26200" y="3292560"/>
              <a:ext cx="304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619280" y="3429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ис.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/>
          <p:nvPr/>
        </p:nvSpPr>
        <p:spPr>
          <a:xfrm>
            <a:off x="6516720" y="3573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ис.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/>
          <p:nvPr/>
        </p:nvSpPr>
        <p:spPr>
          <a:xfrm>
            <a:off x="3203640" y="587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ис.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24000" y="1700280"/>
            <a:ext cx="4038480" cy="1843200"/>
            <a:chOff x="324000" y="1700280"/>
            <a:chExt cx="4038480" cy="1843200"/>
          </a:xfrm>
        </p:grpSpPr>
        <p:grpSp>
          <p:nvGrpSpPr>
            <p:cNvPr id="255" name=""/>
            <p:cNvGrpSpPr/>
            <p:nvPr/>
          </p:nvGrpSpPr>
          <p:grpSpPr>
            <a:xfrm>
              <a:off x="552600" y="2001600"/>
              <a:ext cx="3809880" cy="1143000"/>
              <a:chOff x="552600" y="2001600"/>
              <a:chExt cx="3809880" cy="1143000"/>
            </a:xfrm>
          </p:grpSpPr>
          <p:sp>
            <p:nvSpPr>
              <p:cNvPr id="256" name=""/>
              <p:cNvSpPr/>
              <p:nvPr/>
            </p:nvSpPr>
            <p:spPr>
              <a:xfrm flipV="1">
                <a:off x="552600" y="2001600"/>
                <a:ext cx="3809880" cy="114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28560" y="2154600"/>
                <a:ext cx="3200400" cy="838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395280" y="1700280"/>
              <a:ext cx="457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а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4000" y="3068640"/>
              <a:ext cx="533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3. Укажите номера рисунков, на которых изображены параллельные прямы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249640" y="4365720"/>
            <a:ext cx="4613400" cy="2209680"/>
            <a:chOff x="2249640" y="4365720"/>
            <a:chExt cx="4613400" cy="2209680"/>
          </a:xfrm>
        </p:grpSpPr>
        <p:grpSp>
          <p:nvGrpSpPr>
            <p:cNvPr id="262" name=""/>
            <p:cNvGrpSpPr/>
            <p:nvPr/>
          </p:nvGrpSpPr>
          <p:grpSpPr>
            <a:xfrm>
              <a:off x="2249640" y="4365720"/>
              <a:ext cx="4613400" cy="2209680"/>
              <a:chOff x="2249640" y="4365720"/>
              <a:chExt cx="4613400" cy="220968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2249640" y="4365720"/>
                <a:ext cx="4613400" cy="2209680"/>
                <a:chOff x="2249640" y="4365720"/>
                <a:chExt cx="4613400" cy="2209680"/>
              </a:xfrm>
            </p:grpSpPr>
            <p:grpSp>
              <p:nvGrpSpPr>
                <p:cNvPr id="264" name=""/>
                <p:cNvGrpSpPr/>
                <p:nvPr/>
              </p:nvGrpSpPr>
              <p:grpSpPr>
                <a:xfrm>
                  <a:off x="2249640" y="4670640"/>
                  <a:ext cx="4613400" cy="1904760"/>
                  <a:chOff x="2249640" y="4670640"/>
                  <a:chExt cx="4613400" cy="1904760"/>
                </a:xfrm>
              </p:grpSpPr>
              <p:grpSp>
                <p:nvGrpSpPr>
                  <p:cNvPr id="265" name=""/>
                  <p:cNvGrpSpPr/>
                  <p:nvPr/>
                </p:nvGrpSpPr>
                <p:grpSpPr>
                  <a:xfrm>
                    <a:off x="2249640" y="4997880"/>
                    <a:ext cx="4613400" cy="1347480"/>
                    <a:chOff x="2249640" y="4997880"/>
                    <a:chExt cx="4613400" cy="1347480"/>
                  </a:xfrm>
                </p:grpSpPr>
                <p:grpSp>
                  <p:nvGrpSpPr>
                    <p:cNvPr id="266" name=""/>
                    <p:cNvGrpSpPr/>
                    <p:nvPr/>
                  </p:nvGrpSpPr>
                  <p:grpSpPr>
                    <a:xfrm>
                      <a:off x="2249640" y="5265360"/>
                      <a:ext cx="3928320" cy="711720"/>
                      <a:chOff x="2249640" y="5265360"/>
                      <a:chExt cx="3928320" cy="711720"/>
                    </a:xfrm>
                  </p:grpSpPr>
                  <p:sp>
                    <p:nvSpPr>
                      <p:cNvPr id="267" name=""/>
                      <p:cNvSpPr/>
                      <p:nvPr/>
                    </p:nvSpPr>
                    <p:spPr>
                      <a:xfrm>
                        <a:off x="2249640" y="5265360"/>
                        <a:ext cx="3621960" cy="7956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760" bIns="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68" name=""/>
                      <p:cNvSpPr/>
                      <p:nvPr/>
                    </p:nvSpPr>
                    <p:spPr>
                      <a:xfrm>
                        <a:off x="2556360" y="5897160"/>
                        <a:ext cx="3621600" cy="7992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120" bIns="33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269" name=""/>
                    <p:cNvSpPr/>
                    <p:nvPr/>
                  </p:nvSpPr>
                  <p:spPr>
                    <a:xfrm rot="20798400">
                      <a:off x="5939280" y="5043960"/>
                      <a:ext cx="457200" cy="474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5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 rot="20798400">
                      <a:off x="6282000" y="5815440"/>
                      <a:ext cx="533160" cy="474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5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71" name=""/>
                  <p:cNvSpPr/>
                  <p:nvPr/>
                </p:nvSpPr>
                <p:spPr>
                  <a:xfrm>
                    <a:off x="4164120" y="4670640"/>
                    <a:ext cx="0" cy="1904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72" name=""/>
                <p:cNvSpPr/>
                <p:nvPr/>
              </p:nvSpPr>
              <p:spPr>
                <a:xfrm>
                  <a:off x="4164120" y="4365720"/>
                  <a:ext cx="38088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500" spc="-1" strike="noStrike">
                      <a:solidFill>
                        <a:srgbClr val="0000cc"/>
                      </a:solidFill>
                      <a:latin typeface="Times New Roman"/>
                      <a:ea typeface="Times New Roman"/>
                    </a:rPr>
                    <a:t>с</a:t>
                  </a:r>
                  <a:endParaRPr b="0" lang="en-US" sz="2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4164120" y="57373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316400" y="5737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4316400" y="5280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4163760" y="55087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5104800" y="2417040"/>
            <a:ext cx="3768840" cy="1480680"/>
            <a:chOff x="5104800" y="2417040"/>
            <a:chExt cx="3768840" cy="1480680"/>
          </a:xfrm>
        </p:grpSpPr>
        <p:grpSp>
          <p:nvGrpSpPr>
            <p:cNvPr id="278" name=""/>
            <p:cNvGrpSpPr/>
            <p:nvPr/>
          </p:nvGrpSpPr>
          <p:grpSpPr>
            <a:xfrm>
              <a:off x="5104800" y="2817720"/>
              <a:ext cx="3175560" cy="1080000"/>
              <a:chOff x="5104800" y="2817720"/>
              <a:chExt cx="3175560" cy="1080000"/>
            </a:xfrm>
          </p:grpSpPr>
          <p:sp>
            <p:nvSpPr>
              <p:cNvPr id="279" name=""/>
              <p:cNvSpPr/>
              <p:nvPr/>
            </p:nvSpPr>
            <p:spPr>
              <a:xfrm flipV="1">
                <a:off x="5104800" y="2817720"/>
                <a:ext cx="2729160" cy="54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5551560" y="3350520"/>
                <a:ext cx="2728800" cy="54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 rot="19768800">
              <a:off x="7857720" y="2471760"/>
              <a:ext cx="34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9768800">
              <a:off x="8380440" y="3119040"/>
              <a:ext cx="399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83040" y="2427480"/>
            <a:ext cx="3562200" cy="1325160"/>
            <a:chOff x="383040" y="2427480"/>
            <a:chExt cx="3562200" cy="1325160"/>
          </a:xfrm>
        </p:grpSpPr>
        <p:grpSp>
          <p:nvGrpSpPr>
            <p:cNvPr id="284" name=""/>
            <p:cNvGrpSpPr/>
            <p:nvPr/>
          </p:nvGrpSpPr>
          <p:grpSpPr>
            <a:xfrm>
              <a:off x="904320" y="2427480"/>
              <a:ext cx="3040920" cy="1256760"/>
              <a:chOff x="904320" y="2427480"/>
              <a:chExt cx="3040920" cy="1256760"/>
            </a:xfrm>
          </p:grpSpPr>
          <p:sp>
            <p:nvSpPr>
              <p:cNvPr id="285" name=""/>
              <p:cNvSpPr/>
              <p:nvPr/>
            </p:nvSpPr>
            <p:spPr>
              <a:xfrm flipV="1">
                <a:off x="904320" y="2427480"/>
                <a:ext cx="3024000" cy="53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148400" y="3259080"/>
                <a:ext cx="2796840" cy="425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 rot="796800">
              <a:off x="432360" y="2747160"/>
              <a:ext cx="3808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796800">
              <a:off x="939240" y="3249000"/>
              <a:ext cx="304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619280" y="3860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ис.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/>
          <p:nvPr/>
        </p:nvSpPr>
        <p:spPr>
          <a:xfrm>
            <a:off x="6659640" y="393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ис.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/>
          <p:nvPr/>
        </p:nvSpPr>
        <p:spPr>
          <a:xfrm>
            <a:off x="4427640" y="623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ис.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4. Укажите правильную концовку определения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1989000"/>
            <a:ext cx="835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alibri"/>
              </a:rPr>
              <a:t>Два отрезка называются параллельными, если они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оба перпендикулярны к третьей прямо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лежат на параллельных прямы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имеют одинаковое расстояние между конц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не пересекаются на плоск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5. Укажите рисунки, на которых приведены параллельные отрезк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398920" y="4295880"/>
            <a:ext cx="3505320" cy="1892160"/>
            <a:chOff x="5398920" y="4295880"/>
            <a:chExt cx="3505320" cy="1892160"/>
          </a:xfrm>
        </p:grpSpPr>
        <p:grpSp>
          <p:nvGrpSpPr>
            <p:cNvPr id="296" name=""/>
            <p:cNvGrpSpPr/>
            <p:nvPr/>
          </p:nvGrpSpPr>
          <p:grpSpPr>
            <a:xfrm>
              <a:off x="5398920" y="4295880"/>
              <a:ext cx="3505320" cy="1892160"/>
              <a:chOff x="5398920" y="4295880"/>
              <a:chExt cx="3505320" cy="1892160"/>
            </a:xfrm>
          </p:grpSpPr>
          <p:sp>
            <p:nvSpPr>
              <p:cNvPr id="297" name=""/>
              <p:cNvSpPr/>
              <p:nvPr/>
            </p:nvSpPr>
            <p:spPr>
              <a:xfrm flipV="1">
                <a:off x="5551560" y="4676760"/>
                <a:ext cx="289548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703840" y="5743440"/>
                <a:ext cx="2895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398920" y="475308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913520" y="42958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551560" y="574344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294760" y="581976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5551560" y="513396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47040" y="4600440"/>
              <a:ext cx="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703840" y="566748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599320" y="566748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116000" y="4221000"/>
            <a:ext cx="3504960" cy="1887480"/>
            <a:chOff x="1116000" y="4221000"/>
            <a:chExt cx="3504960" cy="1887480"/>
          </a:xfrm>
        </p:grpSpPr>
        <p:sp>
          <p:nvSpPr>
            <p:cNvPr id="308" name=""/>
            <p:cNvSpPr/>
            <p:nvPr/>
          </p:nvSpPr>
          <p:spPr>
            <a:xfrm>
              <a:off x="2716200" y="49021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1116000" y="4292640"/>
              <a:ext cx="3504960" cy="1815840"/>
              <a:chOff x="1116000" y="4292640"/>
              <a:chExt cx="3504960" cy="1815840"/>
            </a:xfrm>
          </p:grpSpPr>
          <p:grpSp>
            <p:nvGrpSpPr>
              <p:cNvPr id="310" name=""/>
              <p:cNvGrpSpPr/>
              <p:nvPr/>
            </p:nvGrpSpPr>
            <p:grpSpPr>
              <a:xfrm>
                <a:off x="1116000" y="4292640"/>
                <a:ext cx="3504960" cy="1815840"/>
                <a:chOff x="1116000" y="4292640"/>
                <a:chExt cx="3504960" cy="1815840"/>
              </a:xfrm>
            </p:grpSpPr>
            <p:grpSp>
              <p:nvGrpSpPr>
                <p:cNvPr id="311" name=""/>
                <p:cNvGrpSpPr/>
                <p:nvPr/>
              </p:nvGrpSpPr>
              <p:grpSpPr>
                <a:xfrm>
                  <a:off x="1116000" y="4292640"/>
                  <a:ext cx="3504960" cy="1815840"/>
                  <a:chOff x="1116000" y="4292640"/>
                  <a:chExt cx="3504960" cy="1815840"/>
                </a:xfrm>
              </p:grpSpPr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1268280" y="4673520"/>
                    <a:ext cx="3048120" cy="1065600"/>
                    <a:chOff x="1268280" y="4673520"/>
                    <a:chExt cx="3048120" cy="106560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 flipV="1">
                      <a:off x="1268280" y="4673520"/>
                      <a:ext cx="2895480" cy="5328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flipV="1">
                      <a:off x="1420560" y="5205960"/>
                      <a:ext cx="2895840" cy="53316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15" name=""/>
                  <p:cNvSpPr/>
                  <p:nvPr/>
                </p:nvSpPr>
                <p:spPr>
                  <a:xfrm>
                    <a:off x="1116000" y="4749480"/>
                    <a:ext cx="685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0000"/>
                        </a:solidFill>
                        <a:latin typeface="Arial"/>
                      </a:rPr>
                      <a:t>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630600" y="4292640"/>
                    <a:ext cx="457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0000"/>
                        </a:solidFill>
                        <a:latin typeface="Arial"/>
                      </a:rPr>
                      <a:t>B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1268280" y="5740200"/>
                    <a:ext cx="533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0000"/>
                        </a:solidFill>
                        <a:latin typeface="Arial"/>
                      </a:rPr>
                      <a:t>C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4011480" y="5283000"/>
                    <a:ext cx="609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0000"/>
                        </a:solidFill>
                        <a:latin typeface="Arial"/>
                      </a:rPr>
                      <a:t>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19" name=""/>
                <p:cNvSpPr/>
                <p:nvPr/>
              </p:nvSpPr>
              <p:spPr>
                <a:xfrm>
                  <a:off x="1268280" y="5130720"/>
                  <a:ext cx="0" cy="152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164120" y="4597200"/>
                  <a:ext cx="0" cy="152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420920" y="5664240"/>
                  <a:ext cx="0" cy="152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316400" y="5130720"/>
                  <a:ext cx="0" cy="152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23" name=""/>
              <p:cNvSpPr/>
              <p:nvPr/>
            </p:nvSpPr>
            <p:spPr>
              <a:xfrm>
                <a:off x="2487600" y="4673520"/>
                <a:ext cx="304920" cy="1219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268360" y="4221000"/>
              <a:ext cx="5335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639880" y="5130720"/>
              <a:ext cx="15264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68480" y="5511960"/>
              <a:ext cx="7632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715840" y="5664240"/>
              <a:ext cx="22860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592560" y="1896840"/>
            <a:ext cx="3413880" cy="1668600"/>
            <a:chOff x="592560" y="1896840"/>
            <a:chExt cx="3413880" cy="1668600"/>
          </a:xfrm>
        </p:grpSpPr>
        <p:grpSp>
          <p:nvGrpSpPr>
            <p:cNvPr id="329" name=""/>
            <p:cNvGrpSpPr/>
            <p:nvPr/>
          </p:nvGrpSpPr>
          <p:grpSpPr>
            <a:xfrm>
              <a:off x="592560" y="1896840"/>
              <a:ext cx="3413880" cy="1344240"/>
              <a:chOff x="592560" y="1896840"/>
              <a:chExt cx="3413880" cy="1344240"/>
            </a:xfrm>
          </p:grpSpPr>
          <p:grpSp>
            <p:nvGrpSpPr>
              <p:cNvPr id="330" name=""/>
              <p:cNvGrpSpPr/>
              <p:nvPr/>
            </p:nvGrpSpPr>
            <p:grpSpPr>
              <a:xfrm>
                <a:off x="592560" y="1896840"/>
                <a:ext cx="3413880" cy="1344240"/>
                <a:chOff x="592560" y="1896840"/>
                <a:chExt cx="3413880" cy="1344240"/>
              </a:xfrm>
            </p:grpSpPr>
            <p:grpSp>
              <p:nvGrpSpPr>
                <p:cNvPr id="331" name=""/>
                <p:cNvGrpSpPr/>
                <p:nvPr/>
              </p:nvGrpSpPr>
              <p:grpSpPr>
                <a:xfrm>
                  <a:off x="592560" y="1896840"/>
                  <a:ext cx="3413880" cy="1344240"/>
                  <a:chOff x="592560" y="1896840"/>
                  <a:chExt cx="3413880" cy="1344240"/>
                </a:xfrm>
              </p:grpSpPr>
              <p:grpSp>
                <p:nvGrpSpPr>
                  <p:cNvPr id="332" name=""/>
                  <p:cNvGrpSpPr/>
                  <p:nvPr/>
                </p:nvGrpSpPr>
                <p:grpSpPr>
                  <a:xfrm>
                    <a:off x="592560" y="2259720"/>
                    <a:ext cx="2857320" cy="981360"/>
                    <a:chOff x="592560" y="2259720"/>
                    <a:chExt cx="2857320" cy="981360"/>
                  </a:xfrm>
                </p:grpSpPr>
                <p:sp>
                  <p:nvSpPr>
                    <p:cNvPr id="333" name=""/>
                    <p:cNvSpPr/>
                    <p:nvPr/>
                  </p:nvSpPr>
                  <p:spPr>
                    <a:xfrm flipV="1">
                      <a:off x="592560" y="2259720"/>
                      <a:ext cx="2460240" cy="510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 flipV="1">
                      <a:off x="990000" y="2730960"/>
                      <a:ext cx="2459880" cy="510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35" name=""/>
                  <p:cNvSpPr/>
                  <p:nvPr/>
                </p:nvSpPr>
                <p:spPr>
                  <a:xfrm rot="19768800">
                    <a:off x="3088800" y="1942200"/>
                    <a:ext cx="308880" cy="47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62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500" spc="-1" strike="noStrike">
                        <a:solidFill>
                          <a:srgbClr val="0000cc"/>
                        </a:solidFill>
                        <a:latin typeface="Times New Roman"/>
                        <a:ea typeface="Times New Roman"/>
                      </a:rPr>
                      <a:t>a</a:t>
                    </a:r>
                    <a:endParaRPr b="0" lang="en-US" sz="2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rot="19768800">
                    <a:off x="3548880" y="2518200"/>
                    <a:ext cx="361800" cy="47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62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500" spc="-1" strike="noStrike">
                        <a:solidFill>
                          <a:srgbClr val="0000cc"/>
                        </a:solidFill>
                        <a:latin typeface="Times New Roman"/>
                        <a:ea typeface="Times New Roman"/>
                      </a:rPr>
                      <a:t>b</a:t>
                    </a:r>
                    <a:endParaRPr b="0" lang="en-US" sz="2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37" name=""/>
                <p:cNvSpPr/>
                <p:nvPr/>
              </p:nvSpPr>
              <p:spPr>
                <a:xfrm>
                  <a:off x="1307880" y="251136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222280" y="2359080"/>
                  <a:ext cx="763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765080" y="296856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679480" y="2816280"/>
                  <a:ext cx="763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1079280" y="213048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993680" y="205416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1689120" y="31971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603520" y="29685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637160" y="1628640"/>
            <a:ext cx="3504960" cy="1816200"/>
            <a:chOff x="4637160" y="1628640"/>
            <a:chExt cx="3504960" cy="1816200"/>
          </a:xfrm>
        </p:grpSpPr>
        <p:grpSp>
          <p:nvGrpSpPr>
            <p:cNvPr id="346" name=""/>
            <p:cNvGrpSpPr/>
            <p:nvPr/>
          </p:nvGrpSpPr>
          <p:grpSpPr>
            <a:xfrm>
              <a:off x="4789440" y="2009520"/>
              <a:ext cx="3048120" cy="1067040"/>
              <a:chOff x="4789440" y="2009520"/>
              <a:chExt cx="3048120" cy="1067040"/>
            </a:xfrm>
          </p:grpSpPr>
          <p:sp>
            <p:nvSpPr>
              <p:cNvPr id="347" name=""/>
              <p:cNvSpPr/>
              <p:nvPr/>
            </p:nvSpPr>
            <p:spPr>
              <a:xfrm flipV="1">
                <a:off x="4789440" y="2009520"/>
                <a:ext cx="2895480" cy="533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4941720" y="2543040"/>
                <a:ext cx="289584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4637160" y="20858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51760" y="16286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789440" y="30765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32640" y="26193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908000" y="3573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ис.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/>
          <p:nvPr/>
        </p:nvSpPr>
        <p:spPr>
          <a:xfrm>
            <a:off x="2195640" y="61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ис.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"/>
          <p:cNvSpPr/>
          <p:nvPr/>
        </p:nvSpPr>
        <p:spPr>
          <a:xfrm>
            <a:off x="6588000" y="61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ис.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/>
          <p:nvPr/>
        </p:nvSpPr>
        <p:spPr>
          <a:xfrm>
            <a:off x="6012000" y="33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ис.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"/>
          <p:cNvSpPr/>
          <p:nvPr/>
        </p:nvSpPr>
        <p:spPr>
          <a:xfrm>
            <a:off x="179280" y="3141720"/>
            <a:ext cx="100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║</a:t>
            </a:r>
            <a:r>
              <a:rPr b="1" i="1" lang="en-US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7"/>
          <p:cNvSpPr/>
          <p:nvPr/>
        </p:nvSpPr>
        <p:spPr>
          <a:xfrm>
            <a:off x="857160" y="333360"/>
            <a:ext cx="7072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26028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Свойство углов,</a:t>
            </a:r>
            <a:br>
              <a:rPr sz="4000"/>
            </a:b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образованных при пересечении</a:t>
            </a:r>
            <a:br>
              <a:rPr sz="4000"/>
            </a:b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параллельных прямых секущ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4653000"/>
            <a:ext cx="7634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Цели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повторить определение параллельных прямых, углов образованных, при пересечении двух прямых секущей; закрепить первый признак параллельности прямых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ознакомить учащихся со свойствами углов, полученных при пересечении параллельных прямых секущей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научить применять это свойство при решении задач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360" y="2205000"/>
            <a:ext cx="8207280" cy="2502000"/>
            <a:chOff x="468360" y="2205000"/>
            <a:chExt cx="8207280" cy="2502000"/>
          </a:xfrm>
        </p:grpSpPr>
        <p:grpSp>
          <p:nvGrpSpPr>
            <p:cNvPr id="48" name=""/>
            <p:cNvGrpSpPr/>
            <p:nvPr/>
          </p:nvGrpSpPr>
          <p:grpSpPr>
            <a:xfrm>
              <a:off x="468360" y="2421000"/>
              <a:ext cx="2590560" cy="1871640"/>
              <a:chOff x="468360" y="2421000"/>
              <a:chExt cx="2590560" cy="1871640"/>
            </a:xfrm>
          </p:grpSpPr>
          <p:sp>
            <p:nvSpPr>
              <p:cNvPr id="49" name=""/>
              <p:cNvSpPr/>
              <p:nvPr/>
            </p:nvSpPr>
            <p:spPr>
              <a:xfrm>
                <a:off x="468360" y="2421000"/>
                <a:ext cx="2590560" cy="187164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">
                <a:hlinkClick r:id="rId1" action="ppaction://hlinksldjump"/>
              </p:cNvPr>
              <p:cNvSpPr/>
              <p:nvPr/>
            </p:nvSpPr>
            <p:spPr>
              <a:xfrm>
                <a:off x="684000" y="2565360"/>
                <a:ext cx="21607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Взаимное расположение двух прямых на плоскости.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6084720" y="2421000"/>
              <a:ext cx="2590920" cy="187164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">
              <a:hlinkClick r:id="rId2" action="ppaction://hlinksldjump"/>
            </p:cNvPr>
            <p:cNvSpPr/>
            <p:nvPr/>
          </p:nvSpPr>
          <p:spPr>
            <a:xfrm>
              <a:off x="6156360" y="2565360"/>
              <a:ext cx="244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Параллельность прямых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6661080" y="3429000"/>
              <a:ext cx="158436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877080" y="3789360"/>
              <a:ext cx="158436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45080" y="3357720"/>
              <a:ext cx="34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61080" y="3716280"/>
              <a:ext cx="34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" name="Picture 8" descr="http://static.eva.ru/eva/230000-240000/230884/photoalbum/12719472328588882.jpg"/>
            <p:cNvPicPr/>
            <p:nvPr/>
          </p:nvPicPr>
          <p:blipFill>
            <a:blip r:embed="rId3"/>
            <a:stretch/>
          </p:blipFill>
          <p:spPr>
            <a:xfrm>
              <a:off x="3492360" y="2205000"/>
              <a:ext cx="2216160" cy="25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421080" y="3860640"/>
              <a:ext cx="237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Calibri"/>
                </a:rPr>
                <a:t>Параллельность в жизн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9" name="Picture 8" descr="http://static.eva.ru/eva/230000-240000/230884/photoalbum/12719472328588882.jpg"/>
            <p:cNvPicPr/>
            <p:nvPr/>
          </p:nvPicPr>
          <p:blipFill>
            <a:blip r:embed="rId4"/>
            <a:stretch/>
          </p:blipFill>
          <p:spPr>
            <a:xfrm>
              <a:off x="3492360" y="2205000"/>
              <a:ext cx="2216160" cy="25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421080" y="3860640"/>
              <a:ext cx="237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Calibri"/>
                </a:rPr>
                <a:t>Параллельность в жизн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1" name="Picture 8" descr="http://static.eva.ru/eva/230000-240000/230884/photoalbum/12719472328588882.jpg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492360" y="2205000"/>
              <a:ext cx="2216160" cy="25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421080" y="3860640"/>
              <a:ext cx="237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Calibri"/>
                </a:rPr>
                <a:t>Параллельность в жизн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6. Укажите рисунки, на которых приведены параллельные луч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/>
          <p:nvPr/>
        </p:nvSpPr>
        <p:spPr>
          <a:xfrm>
            <a:off x="6012000" y="4292640"/>
            <a:ext cx="533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4788000" y="4365720"/>
            <a:ext cx="3504960" cy="1815840"/>
            <a:chOff x="4788000" y="4365720"/>
            <a:chExt cx="3504960" cy="1815840"/>
          </a:xfrm>
        </p:grpSpPr>
        <p:sp>
          <p:nvSpPr>
            <p:cNvPr id="361" name=""/>
            <p:cNvSpPr/>
            <p:nvPr/>
          </p:nvSpPr>
          <p:spPr>
            <a:xfrm>
              <a:off x="6388200" y="4975200"/>
              <a:ext cx="7596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4788000" y="4365720"/>
              <a:ext cx="3504960" cy="1815840"/>
              <a:chOff x="4788000" y="4365720"/>
              <a:chExt cx="3504960" cy="1815840"/>
            </a:xfrm>
          </p:grpSpPr>
          <p:grpSp>
            <p:nvGrpSpPr>
              <p:cNvPr id="363" name=""/>
              <p:cNvGrpSpPr/>
              <p:nvPr/>
            </p:nvGrpSpPr>
            <p:grpSpPr>
              <a:xfrm>
                <a:off x="4940280" y="4746600"/>
                <a:ext cx="3048120" cy="1065600"/>
                <a:chOff x="4940280" y="4746600"/>
                <a:chExt cx="3048120" cy="1065600"/>
              </a:xfrm>
            </p:grpSpPr>
            <p:sp>
              <p:nvSpPr>
                <p:cNvPr id="364" name=""/>
                <p:cNvSpPr/>
                <p:nvPr/>
              </p:nvSpPr>
              <p:spPr>
                <a:xfrm flipV="1">
                  <a:off x="4940280" y="4746600"/>
                  <a:ext cx="2895480" cy="53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V="1">
                  <a:off x="5092560" y="5279040"/>
                  <a:ext cx="2895840" cy="533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4788000" y="482256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302600" y="43657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940280" y="581328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683480" y="535608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4940280" y="520380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988400" y="520380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159600" y="4746600"/>
              <a:ext cx="30456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6311520" y="5203800"/>
              <a:ext cx="15228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40480" y="5584680"/>
              <a:ext cx="763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6387840" y="5737320"/>
              <a:ext cx="2286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1055520" y="4299120"/>
            <a:ext cx="3429000" cy="1816200"/>
            <a:chOff x="1055520" y="4299120"/>
            <a:chExt cx="3429000" cy="1816200"/>
          </a:xfrm>
        </p:grpSpPr>
        <p:sp>
          <p:nvSpPr>
            <p:cNvPr id="377" name=""/>
            <p:cNvSpPr/>
            <p:nvPr/>
          </p:nvSpPr>
          <p:spPr>
            <a:xfrm flipV="1">
              <a:off x="1208160" y="4680000"/>
              <a:ext cx="2895480" cy="533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1360440" y="5289840"/>
              <a:ext cx="281952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55520" y="47563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70120" y="42991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08160" y="574704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75040" y="54421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436760" y="5061240"/>
              <a:ext cx="0" cy="152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9040" y="5594400"/>
              <a:ext cx="0" cy="152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788000" y="1916280"/>
            <a:ext cx="3504600" cy="1892160"/>
            <a:chOff x="4788000" y="1916280"/>
            <a:chExt cx="3504600" cy="1892160"/>
          </a:xfrm>
        </p:grpSpPr>
        <p:grpSp>
          <p:nvGrpSpPr>
            <p:cNvPr id="386" name=""/>
            <p:cNvGrpSpPr/>
            <p:nvPr/>
          </p:nvGrpSpPr>
          <p:grpSpPr>
            <a:xfrm>
              <a:off x="4788000" y="1916280"/>
              <a:ext cx="3504600" cy="1892160"/>
              <a:chOff x="4788000" y="1916280"/>
              <a:chExt cx="3504600" cy="1892160"/>
            </a:xfrm>
          </p:grpSpPr>
          <p:sp>
            <p:nvSpPr>
              <p:cNvPr id="387" name=""/>
              <p:cNvSpPr/>
              <p:nvPr/>
            </p:nvSpPr>
            <p:spPr>
              <a:xfrm flipV="1">
                <a:off x="4940280" y="2297160"/>
                <a:ext cx="2895120" cy="533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092560" y="3363840"/>
                <a:ext cx="28951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88000" y="2373480"/>
                <a:ext cx="68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302240" y="1916280"/>
                <a:ext cx="456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940280" y="3363840"/>
                <a:ext cx="53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683480" y="344016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5168880" y="2678400"/>
              <a:ext cx="0" cy="152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21160" y="3287880"/>
              <a:ext cx="0" cy="152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1908000" y="3573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ис.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/>
          <p:nvPr/>
        </p:nvSpPr>
        <p:spPr>
          <a:xfrm>
            <a:off x="5867280" y="371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ис.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6516720" y="5950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ис.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/>
          <p:nvPr/>
        </p:nvSpPr>
        <p:spPr>
          <a:xfrm>
            <a:off x="2195640" y="5950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ис.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/>
          <p:nvPr/>
        </p:nvSpPr>
        <p:spPr>
          <a:xfrm>
            <a:off x="250920" y="2349360"/>
            <a:ext cx="8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║</a:t>
            </a:r>
            <a:r>
              <a:rPr b="1" i="1" lang="en-US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781560" y="2047680"/>
            <a:ext cx="3413880" cy="1668600"/>
            <a:chOff x="781560" y="2047680"/>
            <a:chExt cx="3413880" cy="1668600"/>
          </a:xfrm>
        </p:grpSpPr>
        <p:grpSp>
          <p:nvGrpSpPr>
            <p:cNvPr id="401" name=""/>
            <p:cNvGrpSpPr/>
            <p:nvPr/>
          </p:nvGrpSpPr>
          <p:grpSpPr>
            <a:xfrm>
              <a:off x="781560" y="2047680"/>
              <a:ext cx="3413880" cy="1344240"/>
              <a:chOff x="781560" y="2047680"/>
              <a:chExt cx="3413880" cy="1344240"/>
            </a:xfrm>
          </p:grpSpPr>
          <p:grpSp>
            <p:nvGrpSpPr>
              <p:cNvPr id="402" name=""/>
              <p:cNvGrpSpPr/>
              <p:nvPr/>
            </p:nvGrpSpPr>
            <p:grpSpPr>
              <a:xfrm>
                <a:off x="781560" y="2410560"/>
                <a:ext cx="2857320" cy="981360"/>
                <a:chOff x="781560" y="2410560"/>
                <a:chExt cx="2857320" cy="981360"/>
              </a:xfrm>
            </p:grpSpPr>
            <p:sp>
              <p:nvSpPr>
                <p:cNvPr id="403" name=""/>
                <p:cNvSpPr/>
                <p:nvPr/>
              </p:nvSpPr>
              <p:spPr>
                <a:xfrm flipV="1">
                  <a:off x="781560" y="2410560"/>
                  <a:ext cx="2460240" cy="510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V="1">
                  <a:off x="1179000" y="2881800"/>
                  <a:ext cx="2459880" cy="510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 rot="19768800">
                <a:off x="3277800" y="2093040"/>
                <a:ext cx="3088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500" spc="-1" strike="noStrike">
                    <a:solidFill>
                      <a:srgbClr val="0000cc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9768800">
                <a:off x="3737880" y="2669040"/>
                <a:ext cx="3618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500" spc="-1" strike="noStrike">
                    <a:solidFill>
                      <a:srgbClr val="0000cc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1496880" y="2662200"/>
              <a:ext cx="763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868480" y="2967120"/>
              <a:ext cx="7632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68280" y="22813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82680" y="22050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78120" y="3348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792520" y="3119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79280" y="5373720"/>
            <a:ext cx="8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║</a:t>
            </a:r>
            <a:r>
              <a:rPr b="1" i="1" lang="en-US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ff0000"/>
                </a:solidFill>
                <a:uFillTx/>
                <a:latin typeface="Calibri"/>
              </a:rPr>
              <a:t>7. Назовите внутренние накрест лежащие углы при прямых </a:t>
            </a:r>
            <a:r>
              <a:rPr b="1" i="1" lang="ru-RU" sz="3800" spc="-1" strike="noStrike" u="sng">
                <a:solidFill>
                  <a:srgbClr val="0000cc"/>
                </a:solidFill>
                <a:uFillTx/>
                <a:latin typeface="Calibri"/>
              </a:rPr>
              <a:t>а</a:t>
            </a:r>
            <a:r>
              <a:rPr b="1" lang="ru-RU" sz="3800" spc="-1" strike="noStrike" u="sng">
                <a:solidFill>
                  <a:srgbClr val="ff0000"/>
                </a:solidFill>
                <a:uFillTx/>
                <a:latin typeface="Calibri"/>
              </a:rPr>
              <a:t> и </a:t>
            </a:r>
            <a:r>
              <a:rPr b="1" i="1" lang="en-US" sz="3800" spc="-1" strike="noStrike" u="sng">
                <a:solidFill>
                  <a:srgbClr val="0000cc"/>
                </a:solidFill>
                <a:uFillTx/>
                <a:latin typeface="Calibri"/>
              </a:rPr>
              <a:t>b</a:t>
            </a:r>
            <a:r>
              <a:rPr b="1" lang="ru-RU" sz="3800" spc="-1" strike="noStrike" u="sng">
                <a:solidFill>
                  <a:srgbClr val="ff0000"/>
                </a:solidFill>
                <a:uFillTx/>
                <a:latin typeface="Calibri"/>
              </a:rPr>
              <a:t> и секущей </a:t>
            </a:r>
            <a:r>
              <a:rPr b="1" i="1" lang="ru-RU" sz="3800" spc="-1" strike="noStrike" u="sng">
                <a:solidFill>
                  <a:srgbClr val="0000cc"/>
                </a:solidFill>
                <a:uFillTx/>
                <a:latin typeface="Calibri"/>
              </a:rPr>
              <a:t>с</a:t>
            </a:r>
            <a:r>
              <a:rPr b="1" lang="ru-RU" sz="3800" spc="-1" strike="noStrike" u="sng">
                <a:solidFill>
                  <a:srgbClr val="ff0000"/>
                </a:solidFill>
                <a:uFillTx/>
                <a:latin typeface="Calibri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1547640" y="1628640"/>
            <a:ext cx="6934320" cy="4711680"/>
            <a:chOff x="1547640" y="1628640"/>
            <a:chExt cx="6934320" cy="4711680"/>
          </a:xfrm>
        </p:grpSpPr>
        <p:sp>
          <p:nvSpPr>
            <p:cNvPr id="416" name=""/>
            <p:cNvSpPr/>
            <p:nvPr/>
          </p:nvSpPr>
          <p:spPr>
            <a:xfrm>
              <a:off x="3909960" y="1933560"/>
              <a:ext cx="3581280" cy="434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004840" y="1844640"/>
              <a:ext cx="3353040" cy="449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1547640" y="4436640"/>
              <a:ext cx="6324840" cy="129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76440" y="1704960"/>
              <a:ext cx="5335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а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57880" y="1628640"/>
              <a:ext cx="533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872480" y="4143240"/>
              <a:ext cx="6094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с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43480" y="23288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673880" y="2633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38560" y="26956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443480" y="3000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233440" y="51339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919240" y="50576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76840" y="5591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616480" y="5514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738760" y="44625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119640" y="43718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500880" y="47530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891040" y="49053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8. Назовите соответственные углы при прямых </a:t>
            </a:r>
            <a:r>
              <a:rPr b="1" i="1" lang="ru-RU" sz="4000" spc="-1" strike="noStrike" u="sng">
                <a:solidFill>
                  <a:srgbClr val="0000cc"/>
                </a:solidFill>
                <a:uFillTx/>
                <a:latin typeface="Calibri"/>
              </a:rPr>
              <a:t>а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 и </a:t>
            </a:r>
            <a:r>
              <a:rPr b="1" i="1" lang="ru-RU" sz="4000" spc="-1" strike="noStrike" u="sng">
                <a:solidFill>
                  <a:srgbClr val="0000cc"/>
                </a:solidFill>
                <a:uFillTx/>
                <a:latin typeface="Calibri"/>
              </a:rPr>
              <a:t>с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 и секущей </a:t>
            </a: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Calibri"/>
              </a:rPr>
              <a:t>b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116000" y="1557360"/>
            <a:ext cx="6934320" cy="4711680"/>
            <a:chOff x="1116000" y="1557360"/>
            <a:chExt cx="6934320" cy="4711680"/>
          </a:xfrm>
        </p:grpSpPr>
        <p:sp>
          <p:nvSpPr>
            <p:cNvPr id="436" name=""/>
            <p:cNvSpPr/>
            <p:nvPr/>
          </p:nvSpPr>
          <p:spPr>
            <a:xfrm>
              <a:off x="3478320" y="1862280"/>
              <a:ext cx="3581280" cy="434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1547640" y="1773360"/>
              <a:ext cx="3353040" cy="4495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1116000" y="4363560"/>
              <a:ext cx="632448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944800" y="1633680"/>
              <a:ext cx="5335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а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25880" y="1557360"/>
              <a:ext cx="5335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440480" y="4071960"/>
              <a:ext cx="609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с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11480" y="22575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242240" y="2562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06920" y="26240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11480" y="29289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801800" y="5062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487600" y="49863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44840" y="5519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84840" y="5443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307120" y="4390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88000" y="43005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068880" y="46814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59400" y="48340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ff0000"/>
                </a:solidFill>
                <a:uFillTx/>
                <a:latin typeface="Calibri"/>
              </a:rPr>
              <a:t>9. Назовите внутренние односторонние углы при прямых </a:t>
            </a:r>
            <a:r>
              <a:rPr b="1" i="1" lang="en-US" sz="3800" spc="-1" strike="noStrike" u="sng">
                <a:solidFill>
                  <a:srgbClr val="0000cc"/>
                </a:solidFill>
                <a:uFillTx/>
                <a:latin typeface="Calibri"/>
              </a:rPr>
              <a:t>b</a:t>
            </a:r>
            <a:r>
              <a:rPr b="1" lang="ru-RU" sz="3800" spc="-1" strike="noStrike" u="sng">
                <a:solidFill>
                  <a:srgbClr val="ff0000"/>
                </a:solidFill>
                <a:uFillTx/>
                <a:latin typeface="Calibri"/>
              </a:rPr>
              <a:t> и </a:t>
            </a:r>
            <a:r>
              <a:rPr b="1" i="1" lang="ru-RU" sz="3800" spc="-1" strike="noStrike" u="sng">
                <a:solidFill>
                  <a:srgbClr val="0000cc"/>
                </a:solidFill>
                <a:uFillTx/>
                <a:latin typeface="Calibri"/>
              </a:rPr>
              <a:t>с</a:t>
            </a:r>
            <a:r>
              <a:rPr b="1" lang="ru-RU" sz="3800" spc="-1" strike="noStrike" u="sng">
                <a:solidFill>
                  <a:srgbClr val="ff0000"/>
                </a:solidFill>
                <a:uFillTx/>
                <a:latin typeface="Calibri"/>
              </a:rPr>
              <a:t> и секущей </a:t>
            </a:r>
            <a:r>
              <a:rPr b="1" i="1" lang="ru-RU" sz="3800" spc="-1" strike="noStrike" u="sng">
                <a:solidFill>
                  <a:srgbClr val="0000cc"/>
                </a:solidFill>
                <a:uFillTx/>
                <a:latin typeface="Calibri"/>
              </a:rPr>
              <a:t>а</a:t>
            </a:r>
            <a:r>
              <a:rPr b="1" lang="ru-RU" sz="3800" spc="-1" strike="noStrike" u="sng">
                <a:solidFill>
                  <a:srgbClr val="ff0000"/>
                </a:solidFill>
                <a:uFillTx/>
                <a:latin typeface="Calibri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547640" y="1628640"/>
            <a:ext cx="6934320" cy="4724280"/>
            <a:chOff x="1547640" y="1628640"/>
            <a:chExt cx="6934320" cy="4724280"/>
          </a:xfrm>
        </p:grpSpPr>
        <p:sp>
          <p:nvSpPr>
            <p:cNvPr id="456" name=""/>
            <p:cNvSpPr/>
            <p:nvPr/>
          </p:nvSpPr>
          <p:spPr>
            <a:xfrm>
              <a:off x="3924360" y="1916280"/>
              <a:ext cx="3581280" cy="4343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1547640" y="1857240"/>
              <a:ext cx="6324840" cy="4495680"/>
              <a:chOff x="1547640" y="1857240"/>
              <a:chExt cx="6324840" cy="4495680"/>
            </a:xfrm>
          </p:grpSpPr>
          <p:sp>
            <p:nvSpPr>
              <p:cNvPr id="458" name=""/>
              <p:cNvSpPr/>
              <p:nvPr/>
            </p:nvSpPr>
            <p:spPr>
              <a:xfrm flipH="1">
                <a:off x="2004840" y="1857240"/>
                <a:ext cx="3353040" cy="449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1547640" y="4448160"/>
                <a:ext cx="6324840" cy="1295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>
              <a:off x="3492360" y="1844640"/>
              <a:ext cx="5335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а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357880" y="1628640"/>
              <a:ext cx="533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72480" y="4143240"/>
              <a:ext cx="6094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с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43480" y="23288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673880" y="2633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138560" y="26956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443480" y="3000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233440" y="51339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19240" y="50576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076840" y="5591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616480" y="5514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38760" y="44625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119640" y="43718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500880" y="47530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91040" y="49053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120" y="18864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10. Выберите рисунки с параллельными прямыми </a:t>
            </a:r>
            <a:r>
              <a:rPr b="1" i="1" lang="ru-RU" sz="4000" spc="-1" strike="noStrike" u="sng">
                <a:solidFill>
                  <a:srgbClr val="0000cc"/>
                </a:solidFill>
                <a:uFillTx/>
                <a:latin typeface="Calibri"/>
              </a:rPr>
              <a:t>а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 и </a:t>
            </a: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Calibri"/>
              </a:rPr>
              <a:t>b</a:t>
            </a: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50920" y="1484280"/>
            <a:ext cx="3744720" cy="2962440"/>
            <a:chOff x="250920" y="1484280"/>
            <a:chExt cx="3744720" cy="2962440"/>
          </a:xfrm>
        </p:grpSpPr>
        <p:sp>
          <p:nvSpPr>
            <p:cNvPr id="477" name=""/>
            <p:cNvSpPr/>
            <p:nvPr/>
          </p:nvSpPr>
          <p:spPr>
            <a:xfrm>
              <a:off x="2484360" y="148428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Calibri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14280" y="2500200"/>
              <a:ext cx="368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14280" y="3639960"/>
              <a:ext cx="368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1606680" y="1628640"/>
              <a:ext cx="839520" cy="281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0920" y="317196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50920" y="203040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735560" y="3371760"/>
              <a:ext cx="386640" cy="53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1799280" y="2299320"/>
              <a:ext cx="646560" cy="39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 rot="21012600">
              <a:off x="1454760" y="2216160"/>
              <a:ext cx="1159560" cy="66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9449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944938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122560" y="32385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Calibri"/>
                </a:rPr>
                <a:t>70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575080" y="2500200"/>
              <a:ext cx="91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Calibri"/>
                </a:rPr>
                <a:t>110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003640" y="1413000"/>
            <a:ext cx="3816360" cy="2735280"/>
            <a:chOff x="5003640" y="1413000"/>
            <a:chExt cx="3816360" cy="2735280"/>
          </a:xfrm>
        </p:grpSpPr>
        <p:sp>
          <p:nvSpPr>
            <p:cNvPr id="489" name=""/>
            <p:cNvSpPr/>
            <p:nvPr/>
          </p:nvSpPr>
          <p:spPr>
            <a:xfrm>
              <a:off x="6156360" y="141300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Calibri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5003640" y="1629000"/>
              <a:ext cx="3816360" cy="2519280"/>
              <a:chOff x="5003640" y="1629000"/>
              <a:chExt cx="3816360" cy="2519280"/>
            </a:xfrm>
          </p:grpSpPr>
          <p:sp>
            <p:nvSpPr>
              <p:cNvPr id="491" name=""/>
              <p:cNvSpPr/>
              <p:nvPr/>
            </p:nvSpPr>
            <p:spPr>
              <a:xfrm>
                <a:off x="5067360" y="2419560"/>
                <a:ext cx="368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67360" y="3559320"/>
                <a:ext cx="368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003640" y="3091320"/>
                <a:ext cx="34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cc"/>
                    </a:solidFill>
                    <a:latin typeface="Calibri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003640" y="1949760"/>
                <a:ext cx="34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cc"/>
                    </a:solidFill>
                    <a:latin typeface="Calibri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021440" y="2421360"/>
                <a:ext cx="86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Calibri"/>
                  </a:rPr>
                  <a:t>65</a:t>
                </a:r>
                <a:r>
                  <a:rPr b="1" i="1" lang="en-US" sz="2400" spc="-1" strike="noStrike" baseline="30000">
                    <a:solidFill>
                      <a:srgbClr val="000000"/>
                    </a:solidFill>
                    <a:latin typeface="Calibri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885080" y="3140280"/>
                <a:ext cx="93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Calibri"/>
                  </a:rPr>
                  <a:t>125</a:t>
                </a:r>
                <a:r>
                  <a:rPr b="1" i="1" lang="en-US" sz="2400" spc="-1" strike="noStrike" baseline="30000">
                    <a:solidFill>
                      <a:srgbClr val="000000"/>
                    </a:solidFill>
                    <a:latin typeface="Calibri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011640" y="1629000"/>
                <a:ext cx="1873440" cy="251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6586920" y="2133360"/>
                <a:ext cx="434160" cy="57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877080" y="3356280"/>
                <a:ext cx="863280" cy="43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372720" y="3211920"/>
                <a:ext cx="1582920" cy="86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71650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716508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1" name=""/>
          <p:cNvGrpSpPr/>
          <p:nvPr/>
        </p:nvGrpSpPr>
        <p:grpSpPr>
          <a:xfrm>
            <a:off x="2627280" y="3789360"/>
            <a:ext cx="3745080" cy="2808360"/>
            <a:chOff x="2627280" y="3789360"/>
            <a:chExt cx="3745080" cy="2808360"/>
          </a:xfrm>
        </p:grpSpPr>
        <p:sp>
          <p:nvSpPr>
            <p:cNvPr id="502" name=""/>
            <p:cNvSpPr/>
            <p:nvPr/>
          </p:nvSpPr>
          <p:spPr>
            <a:xfrm>
              <a:off x="2691000" y="4795560"/>
              <a:ext cx="368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691000" y="5935680"/>
              <a:ext cx="368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3562560" y="4078080"/>
              <a:ext cx="1584000" cy="25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822920" y="378936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Calibri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27280" y="546732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627280" y="432576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945240" y="5661000"/>
              <a:ext cx="386640" cy="53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354560" y="551808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Calibri"/>
                </a:rPr>
                <a:t>40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06920" y="472572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Calibri"/>
                </a:rPr>
                <a:t>40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 flipV="1">
              <a:off x="4353840" y="4438800"/>
              <a:ext cx="288360" cy="72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40" y="235"/>
                  </a:moveTo>
                  <a:arcTo wR="10800" hR="10800" stAng="-4681757" swAng="4681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40" y="235"/>
                  </a:moveTo>
                  <a:arcTo wR="10800" hR="10800" stAng="-4681757" swAng="4681757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250920" y="407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Рис.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/>
          <p:nvPr/>
        </p:nvSpPr>
        <p:spPr>
          <a:xfrm>
            <a:off x="4643280" y="623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ис.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/>
          <p:nvPr/>
        </p:nvSpPr>
        <p:spPr>
          <a:xfrm>
            <a:off x="6516720" y="400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ис.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/>
          <p:nvPr/>
        </p:nvSpPr>
        <p:spPr>
          <a:xfrm>
            <a:off x="8352000" y="628164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ЛЮЧ к ТЕСТ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/>
          <p:nvPr/>
        </p:nvSpPr>
        <p:spPr>
          <a:xfrm>
            <a:off x="755640" y="486900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4960" indent="-14349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ценк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» - 10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правильных ответов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» -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о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8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д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9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правильных ответов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» -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о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д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7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правильных ответа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» -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о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до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правильных отве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79280" y="1052640"/>
          <a:ext cx="8785440" cy="3689280"/>
        </p:xfrm>
        <a:graphic>
          <a:graphicData uri="http://schemas.openxmlformats.org/drawingml/2006/table">
            <a:tbl>
              <a:tblPr/>
              <a:tblGrid>
                <a:gridCol w="1467000"/>
                <a:gridCol w="361800"/>
                <a:gridCol w="424080"/>
                <a:gridCol w="506160"/>
                <a:gridCol w="409680"/>
                <a:gridCol w="503280"/>
                <a:gridCol w="504720"/>
                <a:gridCol w="1368360"/>
                <a:gridCol w="1368720"/>
                <a:gridCol w="1295280"/>
                <a:gridCol w="576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;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;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;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;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глы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 и 12,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и 9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глы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 и 6;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 и 8;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 и 5;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и 7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глы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 и 9,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 и 10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; 3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9" name=""/>
          <p:cNvSpPr/>
          <p:nvPr/>
        </p:nvSpPr>
        <p:spPr>
          <a:xfrm>
            <a:off x="8352000" y="628164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4211640" y="2133720"/>
            <a:ext cx="4475160" cy="41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Если две параллельные прямые пересечены третьей, то внутренние накрест лежащие углы равны, а сумма внутренних односторонних углов равна 18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/>
          <p:nvPr/>
        </p:nvSpPr>
        <p:spPr>
          <a:xfrm>
            <a:off x="1042920" y="2276640"/>
            <a:ext cx="1800" cy="344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"/>
          <p:cNvSpPr/>
          <p:nvPr/>
        </p:nvSpPr>
        <p:spPr>
          <a:xfrm>
            <a:off x="2556000" y="2276640"/>
            <a:ext cx="1440" cy="344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/>
          <p:nvPr/>
        </p:nvSpPr>
        <p:spPr>
          <a:xfrm>
            <a:off x="250920" y="3284640"/>
            <a:ext cx="3348000" cy="164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50920" y="2276640"/>
            <a:ext cx="1296720" cy="3443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/>
          <p:nvPr/>
        </p:nvSpPr>
        <p:spPr>
          <a:xfrm>
            <a:off x="611280" y="3573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/>
          <p:nvPr/>
        </p:nvSpPr>
        <p:spPr>
          <a:xfrm>
            <a:off x="2556000" y="4076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/>
          <p:nvPr/>
        </p:nvSpPr>
        <p:spPr>
          <a:xfrm>
            <a:off x="1547640" y="2060640"/>
            <a:ext cx="50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/>
          <p:nvPr/>
        </p:nvSpPr>
        <p:spPr>
          <a:xfrm>
            <a:off x="2556000" y="5300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"/>
          <p:cNvSpPr/>
          <p:nvPr/>
        </p:nvSpPr>
        <p:spPr>
          <a:xfrm>
            <a:off x="1042920" y="53006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"/>
          <p:cNvSpPr/>
          <p:nvPr/>
        </p:nvSpPr>
        <p:spPr>
          <a:xfrm>
            <a:off x="3492360" y="45086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682920" y="3645360"/>
            <a:ext cx="720000" cy="42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/>
          <p:nvPr/>
        </p:nvSpPr>
        <p:spPr>
          <a:xfrm flipV="1" rot="10800000">
            <a:off x="2197080" y="4075920"/>
            <a:ext cx="721080" cy="42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90682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90682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/>
          <p:nvPr/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Свойство углов,</a:t>
            </a:r>
            <a:br>
              <a:rPr sz="4000"/>
            </a:b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образованных при пересечении</a:t>
            </a:r>
            <a:br>
              <a:rPr sz="4000"/>
            </a:b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параллельных прямых секущ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"/>
          <p:cNvSpPr/>
          <p:nvPr/>
        </p:nvSpPr>
        <p:spPr>
          <a:xfrm>
            <a:off x="900000" y="4005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/>
          <p:nvPr/>
        </p:nvSpPr>
        <p:spPr>
          <a:xfrm>
            <a:off x="1835280" y="37162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Доказательство теоремы</a:t>
            </a:r>
            <a:br>
              <a:rPr sz="2800"/>
            </a:b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(свойства углов, образованных при пересечении</a:t>
            </a:r>
            <a:br>
              <a:rPr sz="2800"/>
            </a:b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параллельных прямых секущей)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/>
          <p:nvPr/>
        </p:nvSpPr>
        <p:spPr>
          <a:xfrm>
            <a:off x="8352000" y="628164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"/>
          <p:cNvSpPr/>
          <p:nvPr/>
        </p:nvSpPr>
        <p:spPr>
          <a:xfrm>
            <a:off x="250920" y="2349360"/>
            <a:ext cx="8642160" cy="42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сть                и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секущая, пересекающая их в точках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Проведем через точку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ямую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, чтобы углы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бразованные секущей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 прямыми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ыли рав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признаку параллельности прямых                  А так как через точку А проходит только одна прямая, параллельная прямой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, то прямая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впадает с прямой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ит, углы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бразованные секущей с прямыми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равны. Теорема доказа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/>
          <p:nvPr/>
        </p:nvSpPr>
        <p:spPr>
          <a:xfrm>
            <a:off x="1476360" y="2349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║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/>
          <p:nvPr/>
        </p:nvSpPr>
        <p:spPr>
          <a:xfrm>
            <a:off x="5580000" y="3860640"/>
            <a:ext cx="129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║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Решение задач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Прямая соединительная линия 57"/>
          <p:cNvSpPr/>
          <p:nvPr/>
        </p:nvSpPr>
        <p:spPr>
          <a:xfrm>
            <a:off x="539640" y="3500280"/>
            <a:ext cx="3240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Прямая соединительная линия 58"/>
          <p:cNvSpPr/>
          <p:nvPr/>
        </p:nvSpPr>
        <p:spPr>
          <a:xfrm>
            <a:off x="611280" y="4941720"/>
            <a:ext cx="30970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1"/>
          <p:cNvSpPr/>
          <p:nvPr/>
        </p:nvSpPr>
        <p:spPr>
          <a:xfrm>
            <a:off x="2702520" y="3645000"/>
            <a:ext cx="320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66"/>
          <p:cNvSpPr/>
          <p:nvPr/>
        </p:nvSpPr>
        <p:spPr>
          <a:xfrm>
            <a:off x="1694160" y="3573360"/>
            <a:ext cx="339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25"/>
          <p:cNvSpPr/>
          <p:nvPr/>
        </p:nvSpPr>
        <p:spPr>
          <a:xfrm>
            <a:off x="541080" y="299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26"/>
          <p:cNvSpPr/>
          <p:nvPr/>
        </p:nvSpPr>
        <p:spPr>
          <a:xfrm>
            <a:off x="54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Box 27"/>
          <p:cNvSpPr/>
          <p:nvPr/>
        </p:nvSpPr>
        <p:spPr>
          <a:xfrm>
            <a:off x="2640240" y="22050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Прямая соединительная линия 59"/>
          <p:cNvSpPr/>
          <p:nvPr/>
        </p:nvSpPr>
        <p:spPr>
          <a:xfrm flipV="1">
            <a:off x="2052720" y="2638440"/>
            <a:ext cx="635040" cy="3054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/>
          <p:nvPr/>
        </p:nvSpPr>
        <p:spPr>
          <a:xfrm>
            <a:off x="5003640" y="2492280"/>
            <a:ext cx="414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2160" indent="-1262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ано:              ,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екуща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2160" indent="-1262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2160" indent="-1262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2160" indent="-1262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йти: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2160" indent="-126216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"/>
          <p:cNvSpPr/>
          <p:nvPr/>
        </p:nvSpPr>
        <p:spPr>
          <a:xfrm>
            <a:off x="900000" y="1700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Calibri"/>
              </a:rPr>
              <a:t>Задача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/>
          <p:nvPr/>
        </p:nvSpPr>
        <p:spPr>
          <a:xfrm>
            <a:off x="6300720" y="2492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║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/>
          <p:nvPr/>
        </p:nvSpPr>
        <p:spPr>
          <a:xfrm>
            <a:off x="2052720" y="4724280"/>
            <a:ext cx="431280" cy="43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/>
          <p:nvPr/>
        </p:nvSpPr>
        <p:spPr>
          <a:xfrm>
            <a:off x="1909800" y="4581360"/>
            <a:ext cx="71712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/>
          <p:nvPr/>
        </p:nvSpPr>
        <p:spPr>
          <a:xfrm flipH="1" flipV="1">
            <a:off x="2195640" y="3283560"/>
            <a:ext cx="57672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/>
          <p:nvPr/>
        </p:nvSpPr>
        <p:spPr>
          <a:xfrm flipH="1" flipV="1">
            <a:off x="2050920" y="3139200"/>
            <a:ext cx="86328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1906560" y="3139200"/>
            <a:ext cx="100944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Box 66"/>
          <p:cNvSpPr/>
          <p:nvPr/>
        </p:nvSpPr>
        <p:spPr>
          <a:xfrm>
            <a:off x="2636640" y="4437000"/>
            <a:ext cx="590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r>
              <a:rPr b="1" i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/>
          <p:nvPr/>
        </p:nvSpPr>
        <p:spPr>
          <a:xfrm>
            <a:off x="8352000" y="628164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Решение задач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/>
          <p:nvPr/>
        </p:nvSpPr>
        <p:spPr>
          <a:xfrm>
            <a:off x="755640" y="1628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Calibri"/>
              </a:rPr>
              <a:t>Задача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/>
          <p:nvPr/>
        </p:nvSpPr>
        <p:spPr>
          <a:xfrm>
            <a:off x="5364000" y="2205000"/>
            <a:ext cx="35290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араллельные прямые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пересечены секущими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D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айти:</a:t>
            </a:r>
            <a:r>
              <a:rPr b="0" i="1" lang="ru-RU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i="1" lang="ru-RU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468360" y="2637000"/>
            <a:ext cx="4248000" cy="2592360"/>
            <a:chOff x="468360" y="2637000"/>
            <a:chExt cx="4248000" cy="2592360"/>
          </a:xfrm>
        </p:grpSpPr>
        <p:sp>
          <p:nvSpPr>
            <p:cNvPr id="564" name=""/>
            <p:cNvSpPr/>
            <p:nvPr/>
          </p:nvSpPr>
          <p:spPr>
            <a:xfrm flipH="1">
              <a:off x="971280" y="2708280"/>
              <a:ext cx="863640" cy="252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68360" y="4076640"/>
              <a:ext cx="457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68360" y="2852640"/>
              <a:ext cx="5335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39640" y="3284640"/>
              <a:ext cx="396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39640" y="4508640"/>
              <a:ext cx="417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411280" y="2637000"/>
              <a:ext cx="1944720" cy="25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187280" y="2781360"/>
              <a:ext cx="5335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116000" y="4508640"/>
              <a:ext cx="5335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556000" y="3284640"/>
              <a:ext cx="533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492360" y="4508640"/>
              <a:ext cx="5335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1332000" y="3068280"/>
              <a:ext cx="4305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188000" y="4221000"/>
              <a:ext cx="288000" cy="57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55640" y="3284640"/>
              <a:ext cx="6778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</a:t>
              </a:r>
              <a:r>
                <a:rPr b="1" i="1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о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03280" y="4005360"/>
              <a:ext cx="6778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</a:t>
              </a:r>
              <a:r>
                <a:rPr b="1" i="1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о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3419640" y="4221000"/>
              <a:ext cx="430560" cy="57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5400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5400001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3564000" y="4292640"/>
              <a:ext cx="2880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843280" y="4076640"/>
              <a:ext cx="6778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0</a:t>
              </a:r>
              <a:r>
                <a:rPr b="1" i="1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о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2627280" y="3068640"/>
              <a:ext cx="2880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2484360" y="2997360"/>
              <a:ext cx="43128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5400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5400001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2329920" y="2831400"/>
              <a:ext cx="700920" cy="100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6" y="462"/>
                  </a:moveTo>
                  <a:arcTo wR="10800" hR="10800" stAng="-4390502" swAng="39376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6" y="462"/>
                  </a:moveTo>
                  <a:arcTo wR="10800" hR="10800" stAng="-4390502" swAng="393769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197080" y="2781360"/>
              <a:ext cx="1082160" cy="100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165" y="630"/>
                  </a:moveTo>
                  <a:arcTo wR="10800" hR="10800" stAng="-6580215" swAng="6580215"/>
                  <a:lnTo>
                    <a:pt x="10800" y="10800"/>
                  </a:lnTo>
                  <a:close/>
                </a:path>
                <a:path fill="none" w="21600" h="21600">
                  <a:moveTo>
                    <a:pt x="7165" y="630"/>
                  </a:moveTo>
                  <a:arcTo wR="10800" hR="10800" stAng="-6580215" swAng="6580215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223360" y="2852640"/>
              <a:ext cx="987840" cy="86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71" y="593"/>
                  </a:moveTo>
                  <a:arcTo wR="10800" hR="10800" stAng="-6544358" swAng="6757431"/>
                  <a:lnTo>
                    <a:pt x="10800" y="10800"/>
                  </a:lnTo>
                  <a:close/>
                </a:path>
                <a:path fill="none" w="21600" h="21600">
                  <a:moveTo>
                    <a:pt x="7271" y="593"/>
                  </a:moveTo>
                  <a:arcTo wR="10800" hR="10800" stAng="-6544358" swAng="6757431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275920" y="2924280"/>
              <a:ext cx="864000" cy="86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828" y="181"/>
                  </a:moveTo>
                  <a:arcTo wR="10800" hR="10800" stAng="-6031091" swAng="5437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8828" y="181"/>
                  </a:moveTo>
                  <a:arcTo wR="10800" hR="10800" stAng="-6031091" swAng="543792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341800" y="2997360"/>
              <a:ext cx="7171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79640" y="2708280"/>
              <a:ext cx="457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х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276720" y="2708280"/>
              <a:ext cx="457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у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8352000" y="628164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539640" y="333360"/>
            <a:ext cx="8207640" cy="1871640"/>
            <a:chOff x="539640" y="333360"/>
            <a:chExt cx="8207640" cy="1871640"/>
          </a:xfrm>
        </p:grpSpPr>
        <p:grpSp>
          <p:nvGrpSpPr>
            <p:cNvPr id="64" name=""/>
            <p:cNvGrpSpPr/>
            <p:nvPr/>
          </p:nvGrpSpPr>
          <p:grpSpPr>
            <a:xfrm>
              <a:off x="3348000" y="333360"/>
              <a:ext cx="2590560" cy="1871640"/>
              <a:chOff x="3348000" y="333360"/>
              <a:chExt cx="2590560" cy="1871640"/>
            </a:xfrm>
          </p:grpSpPr>
          <p:sp>
            <p:nvSpPr>
              <p:cNvPr id="65" name=""/>
              <p:cNvSpPr/>
              <p:nvPr/>
            </p:nvSpPr>
            <p:spPr>
              <a:xfrm>
                <a:off x="3348000" y="333360"/>
                <a:ext cx="2590560" cy="187164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">
                <a:hlinkClick r:id="rId1" action="ppaction://hlinksldjump"/>
              </p:cNvPr>
              <p:cNvSpPr/>
              <p:nvPr/>
            </p:nvSpPr>
            <p:spPr>
              <a:xfrm>
                <a:off x="3420720" y="404640"/>
                <a:ext cx="2376720" cy="176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Calibri"/>
                  </a:rPr>
                  <a:t>Свойства углов, образованных при пересечении двух прямых секущей.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6156360" y="333360"/>
              <a:ext cx="2590920" cy="1871640"/>
              <a:chOff x="6156360" y="333360"/>
              <a:chExt cx="2590920" cy="1871640"/>
            </a:xfrm>
          </p:grpSpPr>
          <p:sp>
            <p:nvSpPr>
              <p:cNvPr id="68" name=""/>
              <p:cNvSpPr/>
              <p:nvPr/>
            </p:nvSpPr>
            <p:spPr>
              <a:xfrm>
                <a:off x="6156360" y="333360"/>
                <a:ext cx="2590920" cy="187164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372360" y="549360"/>
                <a:ext cx="18716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">
                <a:hlinkClick r:id="rId2" action="ppaction://hlinksldjump"/>
              </p:cNvPr>
              <p:cNvSpPr/>
              <p:nvPr/>
            </p:nvSpPr>
            <p:spPr>
              <a:xfrm>
                <a:off x="6228000" y="620640"/>
                <a:ext cx="24476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Признак параллельности прямых.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539640" y="333360"/>
              <a:ext cx="2590560" cy="1871640"/>
              <a:chOff x="539640" y="333360"/>
              <a:chExt cx="2590560" cy="1871640"/>
            </a:xfrm>
          </p:grpSpPr>
          <p:sp>
            <p:nvSpPr>
              <p:cNvPr id="72" name=""/>
              <p:cNvSpPr/>
              <p:nvPr/>
            </p:nvSpPr>
            <p:spPr>
              <a:xfrm>
                <a:off x="539640" y="333360"/>
                <a:ext cx="2590560" cy="187164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10920" y="404640"/>
                <a:ext cx="2376360" cy="176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Calibri"/>
                  </a:rPr>
                  <a:t>Углы, образованные при пересечении двух прямых секущей.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4" name=""/>
          <p:cNvGrpSpPr/>
          <p:nvPr/>
        </p:nvGrpSpPr>
        <p:grpSpPr>
          <a:xfrm>
            <a:off x="250920" y="2492280"/>
            <a:ext cx="8531280" cy="1871640"/>
            <a:chOff x="250920" y="2492280"/>
            <a:chExt cx="8531280" cy="1871640"/>
          </a:xfrm>
        </p:grpSpPr>
        <p:grpSp>
          <p:nvGrpSpPr>
            <p:cNvPr id="75" name=""/>
            <p:cNvGrpSpPr/>
            <p:nvPr/>
          </p:nvGrpSpPr>
          <p:grpSpPr>
            <a:xfrm>
              <a:off x="6191280" y="2492280"/>
              <a:ext cx="2590920" cy="1871640"/>
              <a:chOff x="6191280" y="2492280"/>
              <a:chExt cx="2590920" cy="1871640"/>
            </a:xfrm>
          </p:grpSpPr>
          <p:sp>
            <p:nvSpPr>
              <p:cNvPr id="76" name=""/>
              <p:cNvSpPr/>
              <p:nvPr/>
            </p:nvSpPr>
            <p:spPr>
              <a:xfrm>
                <a:off x="6191280" y="2492280"/>
                <a:ext cx="2590920" cy="187164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335640" y="2492280"/>
                <a:ext cx="2376720" cy="176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Calibri"/>
                  </a:rPr>
                  <a:t>Свойства углов, образованных при пересечении параллельных прямых секущей.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50920" y="2492280"/>
              <a:ext cx="2914560" cy="1871640"/>
              <a:chOff x="250920" y="2492280"/>
              <a:chExt cx="2914560" cy="1871640"/>
            </a:xfrm>
          </p:grpSpPr>
          <p:sp>
            <p:nvSpPr>
              <p:cNvPr id="79" name=""/>
              <p:cNvSpPr/>
              <p:nvPr/>
            </p:nvSpPr>
            <p:spPr>
              <a:xfrm>
                <a:off x="574920" y="2492280"/>
                <a:ext cx="2590560" cy="187164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50920" y="2492280"/>
                <a:ext cx="21607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Тестовый контроль знаний.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086200" y="2995560"/>
                <a:ext cx="1008000" cy="11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7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3382920" y="2492280"/>
              <a:ext cx="2590920" cy="1871640"/>
              <a:chOff x="3382920" y="2492280"/>
              <a:chExt cx="2590920" cy="1871640"/>
            </a:xfrm>
          </p:grpSpPr>
          <p:sp>
            <p:nvSpPr>
              <p:cNvPr id="83" name=""/>
              <p:cNvSpPr/>
              <p:nvPr/>
            </p:nvSpPr>
            <p:spPr>
              <a:xfrm>
                <a:off x="3382920" y="2492280"/>
                <a:ext cx="2590920" cy="187164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527640" y="2779560"/>
                <a:ext cx="216036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 u="sng">
                    <a:solidFill>
                      <a:srgbClr val="000000"/>
                    </a:solidFill>
                    <a:uFillTx/>
                    <a:latin typeface="Calibri"/>
                  </a:rPr>
                  <a:t>КЛЮЧ К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 u="sng">
                    <a:solidFill>
                      <a:srgbClr val="000000"/>
                    </a:solidFill>
                    <a:uFillTx/>
                    <a:latin typeface="Calibri"/>
                  </a:rPr>
                  <a:t> </a:t>
                </a:r>
                <a:r>
                  <a:rPr b="1" lang="en-US" sz="2800" spc="-1" strike="noStrike" u="sng">
                    <a:solidFill>
                      <a:srgbClr val="000000"/>
                    </a:solidFill>
                    <a:uFillTx/>
                    <a:latin typeface="Calibri"/>
                  </a:rPr>
                  <a:t>ТЕСТУ.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539640" y="4653000"/>
            <a:ext cx="8206920" cy="1871640"/>
            <a:chOff x="539640" y="4653000"/>
            <a:chExt cx="8206920" cy="1871640"/>
          </a:xfrm>
        </p:grpSpPr>
        <p:grpSp>
          <p:nvGrpSpPr>
            <p:cNvPr id="86" name=""/>
            <p:cNvGrpSpPr/>
            <p:nvPr/>
          </p:nvGrpSpPr>
          <p:grpSpPr>
            <a:xfrm>
              <a:off x="539640" y="4653000"/>
              <a:ext cx="2590560" cy="1871640"/>
              <a:chOff x="539640" y="4653000"/>
              <a:chExt cx="2590560" cy="1871640"/>
            </a:xfrm>
          </p:grpSpPr>
          <p:sp>
            <p:nvSpPr>
              <p:cNvPr id="87" name=""/>
              <p:cNvSpPr/>
              <p:nvPr/>
            </p:nvSpPr>
            <p:spPr>
              <a:xfrm>
                <a:off x="539640" y="4653000"/>
                <a:ext cx="2590560" cy="187164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83640" y="4940280"/>
                <a:ext cx="2303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Решение задач.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3347640" y="4653000"/>
              <a:ext cx="2590560" cy="1871640"/>
              <a:chOff x="3347640" y="4653000"/>
              <a:chExt cx="2590560" cy="1871640"/>
            </a:xfrm>
          </p:grpSpPr>
          <p:sp>
            <p:nvSpPr>
              <p:cNvPr id="90" name=""/>
              <p:cNvSpPr/>
              <p:nvPr/>
            </p:nvSpPr>
            <p:spPr>
              <a:xfrm>
                <a:off x="3347640" y="4653000"/>
                <a:ext cx="2590560" cy="187164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420720" y="5013000"/>
                <a:ext cx="2447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Итог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урока.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6156000" y="4653000"/>
              <a:ext cx="2590560" cy="1871640"/>
              <a:chOff x="6156000" y="4653000"/>
              <a:chExt cx="2590560" cy="1871640"/>
            </a:xfrm>
          </p:grpSpPr>
          <p:sp>
            <p:nvSpPr>
              <p:cNvPr id="93" name=""/>
              <p:cNvSpPr/>
              <p:nvPr/>
            </p:nvSpPr>
            <p:spPr>
              <a:xfrm>
                <a:off x="6156000" y="4653000"/>
                <a:ext cx="2590560" cy="187164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371640" y="5013000"/>
                <a:ext cx="2160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Задание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на дом.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Решение задач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/>
          <p:nvPr/>
        </p:nvSpPr>
        <p:spPr>
          <a:xfrm>
            <a:off x="5003640" y="1844640"/>
            <a:ext cx="414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 рисунке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йти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/>
          <p:nvPr/>
        </p:nvSpPr>
        <p:spPr>
          <a:xfrm>
            <a:off x="900000" y="1700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Calibri"/>
              </a:rPr>
              <a:t>Задача 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539640" y="2349360"/>
            <a:ext cx="3593520" cy="4105440"/>
            <a:chOff x="539640" y="2349360"/>
            <a:chExt cx="3593520" cy="4105440"/>
          </a:xfrm>
        </p:grpSpPr>
        <p:sp>
          <p:nvSpPr>
            <p:cNvPr id="595" name=""/>
            <p:cNvSpPr/>
            <p:nvPr/>
          </p:nvSpPr>
          <p:spPr>
            <a:xfrm>
              <a:off x="539640" y="3357720"/>
              <a:ext cx="3168720" cy="10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826920" y="4438800"/>
              <a:ext cx="288144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58920" y="2708280"/>
              <a:ext cx="865080" cy="374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124000" y="2852640"/>
              <a:ext cx="719280" cy="324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TextBox 25"/>
            <p:cNvSpPr/>
            <p:nvPr/>
          </p:nvSpPr>
          <p:spPr>
            <a:xfrm>
              <a:off x="1260360" y="2349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TextBox 25"/>
            <p:cNvSpPr/>
            <p:nvPr/>
          </p:nvSpPr>
          <p:spPr>
            <a:xfrm>
              <a:off x="2125440" y="2492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TextBox 25"/>
            <p:cNvSpPr/>
            <p:nvPr/>
          </p:nvSpPr>
          <p:spPr>
            <a:xfrm>
              <a:off x="3637080" y="4149720"/>
              <a:ext cx="4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TextBox 25"/>
            <p:cNvSpPr/>
            <p:nvPr/>
          </p:nvSpPr>
          <p:spPr>
            <a:xfrm>
              <a:off x="1547640" y="5662440"/>
              <a:ext cx="42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TextBox 25"/>
            <p:cNvSpPr/>
            <p:nvPr/>
          </p:nvSpPr>
          <p:spPr>
            <a:xfrm>
              <a:off x="2270160" y="5230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TextBox 25"/>
            <p:cNvSpPr/>
            <p:nvPr/>
          </p:nvSpPr>
          <p:spPr>
            <a:xfrm>
              <a:off x="1478160" y="32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TextBox 25"/>
            <p:cNvSpPr/>
            <p:nvPr/>
          </p:nvSpPr>
          <p:spPr>
            <a:xfrm>
              <a:off x="2342160" y="35002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1116000" y="3357720"/>
              <a:ext cx="57384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2122560" y="3862080"/>
              <a:ext cx="57744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TextBox 25"/>
            <p:cNvSpPr/>
            <p:nvPr/>
          </p:nvSpPr>
          <p:spPr>
            <a:xfrm>
              <a:off x="549360" y="2998800"/>
              <a:ext cx="64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0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TextBox 25"/>
            <p:cNvSpPr/>
            <p:nvPr/>
          </p:nvSpPr>
          <p:spPr>
            <a:xfrm>
              <a:off x="2494080" y="4149720"/>
              <a:ext cx="64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0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475280" y="5373720"/>
              <a:ext cx="7200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331640" y="5302080"/>
              <a:ext cx="1007280" cy="28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3757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375795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972360" y="5229360"/>
              <a:ext cx="1582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983" y="65"/>
                  </a:moveTo>
                  <a:arcTo wR="10800" hR="10800" stAng="-5022577" swAng="22801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1983" y="65"/>
                  </a:moveTo>
                  <a:arcTo wR="10800" hR="10800" stAng="-5022577" swAng="2280157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TextBox 25"/>
            <p:cNvSpPr/>
            <p:nvPr/>
          </p:nvSpPr>
          <p:spPr>
            <a:xfrm>
              <a:off x="1844640" y="4726080"/>
              <a:ext cx="64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2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flipV="1">
              <a:off x="2369520" y="4921560"/>
              <a:ext cx="513720" cy="47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41" y="17386"/>
                  </a:moveTo>
                  <a:arcTo wR="10800" hR="10800" stAng="8545352" swAng="7009869"/>
                  <a:lnTo>
                    <a:pt x="10800" y="10800"/>
                  </a:lnTo>
                  <a:close/>
                </a:path>
                <a:path fill="none" w="21600" h="21600">
                  <a:moveTo>
                    <a:pt x="2241" y="17386"/>
                  </a:moveTo>
                  <a:arcTo wR="10800" hR="10800" stAng="8545352" swAng="7009869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flipV="1">
              <a:off x="2412360" y="4875480"/>
              <a:ext cx="574200" cy="56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891" y="19101"/>
                  </a:moveTo>
                  <a:arcTo wR="10800" hR="10800" stAng="7786387" swAng="8370362"/>
                  <a:lnTo>
                    <a:pt x="10800" y="10800"/>
                  </a:lnTo>
                  <a:close/>
                </a:path>
                <a:path fill="none" w="21600" h="21600">
                  <a:moveTo>
                    <a:pt x="3891" y="19101"/>
                  </a:moveTo>
                  <a:arcTo wR="10800" hR="10800" stAng="7786387" swAng="8370362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TextBox 25"/>
            <p:cNvSpPr/>
            <p:nvPr/>
          </p:nvSpPr>
          <p:spPr>
            <a:xfrm>
              <a:off x="2989080" y="5013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6300720" y="2492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║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"/>
          <p:cNvSpPr/>
          <p:nvPr/>
        </p:nvSpPr>
        <p:spPr>
          <a:xfrm>
            <a:off x="8352000" y="628164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Итог уро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Calibri"/>
              </a:rPr>
              <a:t>Заполните пропуски в следующих формулировка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Прямая соединительная линия 57"/>
          <p:cNvSpPr/>
          <p:nvPr/>
        </p:nvSpPr>
        <p:spPr>
          <a:xfrm>
            <a:off x="611280" y="306864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Прямая соединительная линия 58"/>
          <p:cNvSpPr/>
          <p:nvPr/>
        </p:nvSpPr>
        <p:spPr>
          <a:xfrm>
            <a:off x="468360" y="4581360"/>
            <a:ext cx="25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Прямая соединительная линия 59"/>
          <p:cNvSpPr/>
          <p:nvPr/>
        </p:nvSpPr>
        <p:spPr>
          <a:xfrm flipV="1">
            <a:off x="1403280" y="2276280"/>
            <a:ext cx="812880" cy="30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1"/>
          <p:cNvSpPr/>
          <p:nvPr/>
        </p:nvSpPr>
        <p:spPr>
          <a:xfrm>
            <a:off x="1992240" y="3139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60"/>
          <p:cNvSpPr/>
          <p:nvPr/>
        </p:nvSpPr>
        <p:spPr>
          <a:xfrm>
            <a:off x="1612800" y="4535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61"/>
          <p:cNvSpPr/>
          <p:nvPr/>
        </p:nvSpPr>
        <p:spPr>
          <a:xfrm>
            <a:off x="2136600" y="270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62"/>
          <p:cNvSpPr/>
          <p:nvPr/>
        </p:nvSpPr>
        <p:spPr>
          <a:xfrm>
            <a:off x="1272960" y="4221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63"/>
          <p:cNvSpPr/>
          <p:nvPr/>
        </p:nvSpPr>
        <p:spPr>
          <a:xfrm>
            <a:off x="1764360" y="4149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Box 64"/>
          <p:cNvSpPr/>
          <p:nvPr/>
        </p:nvSpPr>
        <p:spPr>
          <a:xfrm>
            <a:off x="1704240" y="263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65"/>
          <p:cNvSpPr/>
          <p:nvPr/>
        </p:nvSpPr>
        <p:spPr>
          <a:xfrm>
            <a:off x="1611360" y="306864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66"/>
          <p:cNvSpPr/>
          <p:nvPr/>
        </p:nvSpPr>
        <p:spPr>
          <a:xfrm>
            <a:off x="1199880" y="465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25"/>
          <p:cNvSpPr/>
          <p:nvPr/>
        </p:nvSpPr>
        <p:spPr>
          <a:xfrm>
            <a:off x="625320" y="242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26"/>
          <p:cNvSpPr/>
          <p:nvPr/>
        </p:nvSpPr>
        <p:spPr>
          <a:xfrm>
            <a:off x="396720" y="40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27"/>
          <p:cNvSpPr/>
          <p:nvPr/>
        </p:nvSpPr>
        <p:spPr>
          <a:xfrm>
            <a:off x="1343880" y="52293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"/>
          <p:cNvSpPr/>
          <p:nvPr/>
        </p:nvSpPr>
        <p:spPr>
          <a:xfrm>
            <a:off x="4067280" y="2019240"/>
            <a:ext cx="4897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если две параллельные прямые пересечены третьей, то сумма внутренних …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если один из внутренних накрест лежащих углов при параллельных прямых и секущей равен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ве параллельные прямые пересечены третьей, то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енные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/>
          <p:nvPr/>
        </p:nvSpPr>
        <p:spPr>
          <a:xfrm>
            <a:off x="8352000" y="628164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Задание на д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"/>
          <p:cNvSpPr/>
          <p:nvPr/>
        </p:nvSpPr>
        <p:spPr>
          <a:xfrm>
            <a:off x="971640" y="1341360"/>
            <a:ext cx="7561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1720" indent="-801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801720" indent="-801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Calibri"/>
              </a:rPr>
              <a:t>§</a:t>
            </a:r>
            <a:r>
              <a:rPr b="1" i="1" lang="ru-RU" sz="4000" spc="-1" strike="noStrike">
                <a:solidFill>
                  <a:srgbClr val="0000cc"/>
                </a:solidFill>
                <a:latin typeface="Calibri"/>
              </a:rPr>
              <a:t> 4, п. 31, п. 32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801720" indent="-801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Calibri"/>
              </a:rPr>
              <a:t>Вопросы 4-8, стр. 50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801720" indent="-801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Calibri"/>
              </a:rPr>
              <a:t>Выполнить практическую работу по карточкам в тетрадях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"/>
          <p:cNvSpPr/>
          <p:nvPr/>
        </p:nvSpPr>
        <p:spPr>
          <a:xfrm>
            <a:off x="8352000" y="628164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427640" y="5084280"/>
            <a:ext cx="44640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Calibri"/>
              </a:rPr>
              <a:t>Две параллельные прямые </a:t>
            </a:r>
            <a:br>
              <a:rPr sz="2400"/>
            </a:br>
            <a:r>
              <a:rPr b="1" i="1" lang="en-US" sz="2400" spc="-1" strike="noStrike">
                <a:solidFill>
                  <a:srgbClr val="0000cc"/>
                </a:solidFill>
                <a:latin typeface="Calibri"/>
              </a:rPr>
              <a:t>Не прикоснутся никогда </a:t>
            </a:r>
            <a:br>
              <a:rPr sz="2400"/>
            </a:br>
            <a:r>
              <a:rPr b="1" i="1" lang="en-US" sz="2400" spc="-1" strike="noStrike">
                <a:solidFill>
                  <a:srgbClr val="0000cc"/>
                </a:solidFill>
                <a:latin typeface="Calibri"/>
              </a:rPr>
              <a:t>Друг к другу, как бы не хотели </a:t>
            </a:r>
            <a:br>
              <a:rPr sz="2400"/>
            </a:br>
            <a:r>
              <a:rPr b="1" i="1" lang="en-US" sz="2400" spc="-1" strike="noStrike">
                <a:solidFill>
                  <a:srgbClr val="0000cc"/>
                </a:solidFill>
                <a:latin typeface="Calibri"/>
              </a:rPr>
              <a:t>Ни через год, ни через д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260280"/>
            <a:ext cx="698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Как могут располагаться на плоскости две прямые относительно друг друга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95280" y="2708280"/>
            <a:ext cx="3312720" cy="1552320"/>
            <a:chOff x="395280" y="2708280"/>
            <a:chExt cx="3312720" cy="1552320"/>
          </a:xfrm>
        </p:grpSpPr>
        <p:grpSp>
          <p:nvGrpSpPr>
            <p:cNvPr id="98" name=""/>
            <p:cNvGrpSpPr/>
            <p:nvPr/>
          </p:nvGrpSpPr>
          <p:grpSpPr>
            <a:xfrm>
              <a:off x="582480" y="2916720"/>
              <a:ext cx="3125520" cy="1044360"/>
              <a:chOff x="582480" y="2916720"/>
              <a:chExt cx="3125520" cy="1044360"/>
            </a:xfrm>
          </p:grpSpPr>
          <p:sp>
            <p:nvSpPr>
              <p:cNvPr id="99" name=""/>
              <p:cNvSpPr/>
              <p:nvPr/>
            </p:nvSpPr>
            <p:spPr>
              <a:xfrm flipV="1">
                <a:off x="582480" y="2916720"/>
                <a:ext cx="3125520" cy="10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4760" y="3056400"/>
                <a:ext cx="2625480" cy="765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457560" y="2708280"/>
              <a:ext cx="37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504d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5280" y="3892320"/>
              <a:ext cx="43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504d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643280" y="2852640"/>
            <a:ext cx="3546720" cy="1485360"/>
            <a:chOff x="4643280" y="2852640"/>
            <a:chExt cx="3546720" cy="1485360"/>
          </a:xfrm>
        </p:grpSpPr>
        <p:grpSp>
          <p:nvGrpSpPr>
            <p:cNvPr id="104" name=""/>
            <p:cNvGrpSpPr/>
            <p:nvPr/>
          </p:nvGrpSpPr>
          <p:grpSpPr>
            <a:xfrm>
              <a:off x="4643280" y="2852640"/>
              <a:ext cx="3039480" cy="1174320"/>
              <a:chOff x="4643280" y="2852640"/>
              <a:chExt cx="3039480" cy="1174320"/>
            </a:xfrm>
          </p:grpSpPr>
          <p:sp>
            <p:nvSpPr>
              <p:cNvPr id="105" name=""/>
              <p:cNvSpPr/>
              <p:nvPr/>
            </p:nvSpPr>
            <p:spPr>
              <a:xfrm>
                <a:off x="4643280" y="2852640"/>
                <a:ext cx="2913120" cy="671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769640" y="3355920"/>
                <a:ext cx="2913120" cy="671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619760" y="3355920"/>
              <a:ext cx="37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504d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46840" y="3969720"/>
              <a:ext cx="44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504d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332000" y="422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ис.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429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ис.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Параллельные в перевод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с греческого язы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«Параллелос» - идущие ряд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411280" y="3357720"/>
            <a:ext cx="4681800" cy="2232000"/>
            <a:chOff x="2411280" y="3357720"/>
            <a:chExt cx="4681800" cy="2232000"/>
          </a:xfrm>
        </p:grpSpPr>
        <p:pic>
          <p:nvPicPr>
            <p:cNvPr id="113" name="Рисунок 6" descr="http://igor-grek.ucoz.ru/_ph/3/1/123579753.jpg"/>
            <p:cNvPicPr/>
            <p:nvPr/>
          </p:nvPicPr>
          <p:blipFill>
            <a:blip r:embed="rId1"/>
            <a:stretch/>
          </p:blipFill>
          <p:spPr>
            <a:xfrm>
              <a:off x="2411280" y="3357720"/>
              <a:ext cx="244800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Рисунок 7" descr="http://igor-grek.ucoz.ru/_ph/3/1/123579753.jpg"/>
            <p:cNvPicPr/>
            <p:nvPr/>
          </p:nvPicPr>
          <p:blipFill>
            <a:blip r:embed="rId2"/>
            <a:stretch/>
          </p:blipFill>
          <p:spPr>
            <a:xfrm>
              <a:off x="4427640" y="3357720"/>
              <a:ext cx="2665440" cy="22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8352000" y="628164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Параллельные прямые в жиз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663640" cy="2663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348000" y="836640"/>
            <a:ext cx="2808360" cy="273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372360" y="836640"/>
            <a:ext cx="2449440" cy="2663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372360" y="3789360"/>
            <a:ext cx="2527200" cy="2808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3276720" y="3789360"/>
            <a:ext cx="2879640" cy="2808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324000" y="3789360"/>
            <a:ext cx="2663640" cy="2868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Если исчезнуть параллельные прямые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ttp://lol54.ru/uploads/posts/2008-11/1225863924_1205148847_2fmvqgeybnqcgxqi0.jpg"/>
          <p:cNvPicPr/>
          <p:nvPr/>
        </p:nvPicPr>
        <p:blipFill>
          <a:blip r:embed="rId1"/>
          <a:srcRect l="6399" t="10298" r="5937" b="7397"/>
          <a:stretch/>
        </p:blipFill>
        <p:spPr>
          <a:xfrm>
            <a:off x="324000" y="1700280"/>
            <a:ext cx="4103640" cy="2986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41054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Изобразительное искус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3635280" y="2060640"/>
            <a:ext cx="525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убизм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р.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 </a:t>
            </a:r>
            <a:r>
              <a:rPr b="1" i="1" lang="fr-FR" sz="2400" spc="-1" strike="noStrike">
                <a:solidFill>
                  <a:srgbClr val="ff0000"/>
                </a:solidFill>
                <a:latin typeface="Calibri"/>
              </a:rPr>
              <a:t>Cubisme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—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вангардистско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направление в изобразительном искусстве, прежде всего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живопис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зародившееся в начале XX века и характеризующееся использованием подчеркнуто геометризованных условных форм, стремлением «раздробить» реальные объекты на стереометрические примитивы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100px-Gris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2276640"/>
            <a:ext cx="2528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Пабло Пикасс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5661000"/>
            <a:ext cx="28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Скрипка и гитара, 1913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4427640" y="566100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ртрет Амбруаза Воллара, 1910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224160" cy="3889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2963880" cy="3889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352000" y="628164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08:14:35Z</dcterms:created>
  <dc:creator>RePack by SPecialiST</dc:creator>
  <dc:description/>
  <dc:language>en-US</dc:language>
  <cp:lastModifiedBy>1</cp:lastModifiedBy>
  <dcterms:modified xsi:type="dcterms:W3CDTF">2015-03-30T08:30:13Z</dcterms:modified>
  <cp:revision>27</cp:revision>
  <dc:subject/>
  <dc:title>Слайд 1</dc:title>
</cp:coreProperties>
</file>